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7E86-B859-4FBD-8261-3983052375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A99D-3F95-4044-81BE-5109822CDD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7: Marketing Globall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7689-C641-49BA-A387-C289934B8E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can vary significantly depending on the company, the product, and the country of operation.  Push promotion uses direct selling while pull relies on mass med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298F-EEAD-4D13-8333-9B54E9F4F6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face numerous challenges because of diverse national environments.  Very often, companies find that they have to adapt their promotion to local market conditions.  For example, companies may find that promotion in rural areas requires specially designed strategies.  Similarly, government regulations can pose problems as can differences in income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even if a standardized approach is possible it may not always be beneficial.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9526-CB13-4CC3-B384-55289BA5CE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s give products instant recogni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D5F8-9984-4AAE-A7C0-749059ADB47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AF3B-324D-4F89-A952-2B28DDB794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ame brand worldwide helps a firm develop a global image, but may not always be possible because of language differences or because the firm has acquired a locally branded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of-origin can also be a factor in br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lobal brand can help a company overcome negative country-of-origin images, but keep in mind that images can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the advantages of a well-known brand can be negated if the brand becomes a generic term.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FC88-9DE9-437B-A3D3-E10072107D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distribution, international marketing managers not only have to figure out how to get the product to a particular country, they also need to develop a strategy to get it to the end us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6DDD-7CED-44EF-8D5A-32AC01D36D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elements in the marketing mix, managers need to decide whether distribution can be standardized or whether it needs to be adapted to fit the needs of each market.  In general, distribution is the most difficult element to standard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cost and time involved in establishing a distribution system can make it difficult to change even when the situation chang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0945-08DB-4A66-8E82-8D4F7B493B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ust decide whether to handle distribution in-house or outsource it.  If a firm decides to outsource, it must ensure that it uses a qualified distributor.  In addition, reliable after-sales service needs to be available especially for products using new technolog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88A8-D4FC-433C-95CD-69D0886347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looking for distributors may find that many are locked into exclusive arrangements.  In some cases, it may be necessary to offer distributors incentives or offer proven products as bait for taking on new ones.  Companies may even find that they have to convince distributors of the viability of the company itself.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3DB6-3673-45D0-986D-0DF7D80AE3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costs can vary between countries because of infrastructure conditions, the number of levels in the distribution system, retail inefficiencies, size and operating hour restrictions, and inventory stock-ou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B10D-A292-435E-A7BC-5F647CBEF7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marketing is like domestic marketing in that a firm needs a desirable product or service, must tell people about it, price it at an acceptable level, and offer it in the right location.  However, because international marketing managers operate in an unfamiliar environment each of these activities becomes more comple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499B-C85E-48B5-AB73-0E580585DF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common marketing orien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ion orientation assumes that customers want lower prices or higher quality.  This approach is generally only used for commodity sales, passive exports, and foreign ni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orientation assumes that foreign customers are similar to domestic customers, so the company simply sells abroad what it can sell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orientation, in contrast, holds the country as a constant and varies the product and marketing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marketing orientation adapts product strategy by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social marketing orientation considers decisions from the perspective of all stakeholders.  Firms using this approach try to act in a socially responsible wa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D191-42FE-45E3-A65C-81C0B0BA9F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have to segment markets and identify specific segments to target.  Three basic ways to do this is are by country, by global segment, and using multiple criter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2545-66C8-4AA7-BA89-1EFFB83341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prefer not to alter their product for foreign markets because of the costs involved in doing so.  However, in many cases different legal, cultural, and economic conditions in the target market make product alterations a neces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duct changes are necessary, firms can still try to find ways to control alteration costs by changing only what needs to be changed and keeping everything else the sam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12A1-C721-4D23-979F-F2D1421320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deciding whether a product needs to be adapted for a target market, firms also need to consider the extent and mix of the product line that will be sold in foreign markets.  This requires sales and cost considerations as well as product life cycle consider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62B1-DBF9-48D9-AB9D-332E2710F9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in international markets is more complex than domestic pricing.  Governments, for example, may establish pricing guidelines or even forbid certain pricing strategies.  Similarly, market diversity can encourage different pricing across mark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9D79-1837-4B1B-A8B5-0401F714D5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can use different pric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kimming strategy involves </a:t>
            </a:r>
            <a:r>
              <a:rPr b="0" lang="en-US" sz="1200" spc="-1" strike="noStrike">
                <a:solidFill>
                  <a:srgbClr val="000000"/>
                </a:solidFill>
                <a:latin typeface="Palatino-Roman"/>
              </a:rPr>
              <a:t>charging a high price for a new product by aiming first at consumers willing to pay the price, and then progressively lowering the pr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rms using a </a:t>
            </a:r>
            <a:r>
              <a:rPr b="0" lang="en-US" sz="1200" spc="-1" strike="noStrike">
                <a:solidFill>
                  <a:srgbClr val="000000"/>
                </a:solidFill>
                <a:latin typeface="Palatino-Bold"/>
              </a:rPr>
              <a:t>penetration strategy in</a:t>
            </a:r>
            <a:r>
              <a:rPr b="0" lang="en-US" sz="1200" spc="-1" strike="noStrike">
                <a:solidFill>
                  <a:srgbClr val="000000"/>
                </a:solidFill>
                <a:latin typeface="Palatino-Roman"/>
              </a:rPr>
              <a:t>troduce a product at a low price to induce a maximum number of consumers to tr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Palatino-Roman"/>
              </a:rPr>
              <a:t> </a:t>
            </a:r>
            <a:r>
              <a:rPr b="0" lang="en-US" sz="1200" spc="-1" strike="noStrike">
                <a:solidFill>
                  <a:srgbClr val="000000"/>
                </a:solidFill>
                <a:latin typeface="Palatino-Bold"/>
              </a:rPr>
              <a:t>cost-plus strategy involves </a:t>
            </a:r>
            <a:r>
              <a:rPr b="0" lang="en-US" sz="1200" spc="-1" strike="noStrike">
                <a:solidFill>
                  <a:srgbClr val="000000"/>
                </a:solidFill>
                <a:latin typeface="Palatino-Roman"/>
              </a:rPr>
              <a:t>pricing at a desired margin over cost.  </a:t>
            </a:r>
            <a:r>
              <a:rPr b="0" lang="en-US" sz="1200" spc="-1" strike="noStrike">
                <a:solidFill>
                  <a:srgbClr val="000000"/>
                </a:solidFill>
                <a:latin typeface="Arial"/>
              </a:rPr>
              <a:t>Keep in mind that export price escalation may occur.  This typically happens for two rea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Medium"/>
              </a:rPr>
              <a:t>First, c</a:t>
            </a:r>
            <a:r>
              <a:rPr b="0" lang="en-US" sz="1200" spc="-1" strike="noStrike">
                <a:solidFill>
                  <a:srgbClr val="000000"/>
                </a:solidFill>
                <a:latin typeface="Palatino-Roman"/>
              </a:rPr>
              <a:t>hannels of distribution usually include additional intermediaries because exporters need to contract with organizations that know how to sell in foreign markets.  Second, tariffs and transport are additional costs that may be passed on to consum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remember that pricing in highly volatile currencies can be extremely troubles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BEA2-81D8-4C85-B85A-D0568C665A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easy access to information makes it much harder for firms to price on a country-to-country basis.  Grey markets typically emerge when differences ex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92C57-AFF3-46E3-B621-98C50093F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213F9-A115-4DAF-A7EB-FA7F35E0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C067B-C620-4A7A-8D88-DCDC9178F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B8663-D8FA-4A42-BE2F-FDF30E834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E358D-7E13-4800-9651-0F7E38C33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50918-D4C3-46AB-9395-6B5ABF277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AED58-16C6-49D9-9C55-E76B5CC5E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346BF-0752-46DE-8D4E-239B7D723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969EC-CED7-481D-949A-8CCAAC8AA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985AF-A6F4-4395-878B-4644B8136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AD573-1188-4B4D-A10E-63BBF7BF4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9EEC7-1C93-4898-879C-2E770B95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8A4AC-6EED-4F39-8B42-8AD61C847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DD27D-46CA-4D40-A033-822DEE325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A550B-8FBD-4C92-8A06-EAB7F755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CC98D-127E-40CE-ADDE-06DE844D8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9426D-140D-43F5-9B82-517E42F46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BE78-63B6-458F-9584-24D3B543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2E22D-6FEC-4A31-9377-6CDED4749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9C331-9ED6-47E7-B758-F59104CE1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57D6-994F-4B19-BB51-04AB2FCE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9E59-909C-4461-9853-E1E09860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ED2A-75C6-4F33-B556-4085B2723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25E1-AA9F-4E7F-9B9C-0C307AE38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fld id="{EAACC40C-8052-42D2-AF06-57F146FDE4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fld id="{95654FE3-D17F-4FDE-A241-07A6ED6FD5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D56E7458-3437-4E3F-8BB7-E37C9206B6B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7</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Marketing Globally</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976C202C-4918-4E5A-BACA-717A1CBEC5E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motion Strategies</a:t>
            </a:r>
            <a:endParaRPr b="0" lang="en-US" sz="4800" spc="-1" strike="noStrike">
              <a:solidFill>
                <a:srgbClr val="6f6e4a"/>
              </a:solidFill>
              <a:latin typeface="Georgi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romo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presentation of messages intended to help sell a product or servic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ush-pull mix</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ush</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ses direct selling techniqu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ull</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lies on mass media (Nigeria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8AD3EA82-2E25-4DA2-A446-7E73E9C4E44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motion Strategies</a:t>
            </a:r>
            <a:endParaRPr b="0" lang="en-US" sz="4800" spc="-1" strike="noStrike">
              <a:solidFill>
                <a:srgbClr val="6f6e4a"/>
              </a:solidFill>
              <a:latin typeface="Georgi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dvantages of standardized advertis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er cos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etter quality at local leve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on global im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apid entry into multiple countri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However, firms could have problems with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ns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it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need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89F91719-8EB3-495E-98CC-F401A32B898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randing Strategies</a:t>
            </a:r>
            <a:endParaRPr b="0" lang="en-US" sz="4800" spc="-1" strike="noStrike">
              <a:solidFill>
                <a:srgbClr val="6f6e4a"/>
              </a:solidFill>
              <a:latin typeface="Georgi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rand</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identifying mark for a product or servic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fld id="{721D4BCB-A671-4B31-9093-C0C46EF9D098}"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lobal Products and Brands</a:t>
            </a:r>
            <a:endParaRPr b="0" lang="en-US" sz="4800" spc="-1" strike="noStrike">
              <a:solidFill>
                <a:srgbClr val="6f6e4a"/>
              </a:solidFill>
              <a:latin typeface="Georgia"/>
            </a:endParaRPr>
          </a:p>
        </p:txBody>
      </p:sp>
      <p:sp>
        <p:nvSpPr>
          <p:cNvPr id="147" name="PlaceHolder 2"/>
          <p:cNvSpPr>
            <a:spLocks noGrp="1"/>
          </p:cNvSpPr>
          <p:nvPr>
            <p:ph/>
          </p:nvPr>
        </p:nvSpPr>
        <p:spPr>
          <a:xfrm>
            <a:off x="609480" y="1523880"/>
            <a:ext cx="7772400" cy="32004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lobal products meet the wants and needs of a global market and are offered in all world regio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Verdana"/>
                <a:hlinkClick r:id="rId1" action="ppaction://hlinksldjump"/>
              </a:rPr>
              <a:t>Global brands have the same name and similar image and positioning throughout the world</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148" name="Picture 4" descr="C:\Documents and Settings\Jill Solomon\My Documents\My Pictures\K &amp; G 6e\motorcycle vector.jpg"/>
          <p:cNvPicPr/>
          <p:nvPr/>
        </p:nvPicPr>
        <p:blipFill>
          <a:blip r:embed="rId2"/>
          <a:stretch/>
        </p:blipFill>
        <p:spPr>
          <a:xfrm>
            <a:off x="1066680" y="4648320"/>
            <a:ext cx="3353040" cy="1971720"/>
          </a:xfrm>
          <a:prstGeom prst="rect">
            <a:avLst/>
          </a:prstGeom>
          <a:ln w="0">
            <a:noFill/>
          </a:ln>
        </p:spPr>
      </p:pic>
      <p:sp>
        <p:nvSpPr>
          <p:cNvPr id="149" name="Text Box 5"/>
          <p:cNvSpPr/>
          <p:nvPr/>
        </p:nvSpPr>
        <p:spPr>
          <a:xfrm>
            <a:off x="4724280" y="5257800"/>
            <a:ext cx="3657600" cy="703800"/>
          </a:xfrm>
          <a:prstGeom prst="rect">
            <a:avLst/>
          </a:prstGeom>
          <a:solidFill>
            <a:srgbClr val="f3d0c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ley Davidson has dealers in over 60 countri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F7608DE5-5514-49D8-91CF-E30D8708B1F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randing Strategies</a:t>
            </a:r>
            <a:endParaRPr b="0" lang="en-US" sz="48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dvantages of a worldwide brand</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lobal im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lobal player identificatio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s with global brand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ngu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rand acquisi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untry-of-origi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eneric and near-generic name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FAC395C9-F532-455B-89F8-6D1B42B8C2B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istribut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course – physical path or legal title – that goods take between production and consump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717177DD-2412-4467-8398-5694C4D12F3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ciding whether to standardiz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ion can vary substantially among countr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ion can be difficult to change</a:t>
            </a: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74F7DB4A-90F6-4E9F-BE1F-08861152E50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choosing distributors and channels firms must consider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ther internal handling is feasibl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ich distributors are qualified</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reliability of after-sales servic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F1EBCBD2-762F-4F62-9420-F724A8CBBA8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ors choose which products to handl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get a distributor to work for them, companies may have to</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ive incentiv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se successful products as bait for new on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vince distributors that their product and company are viable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376D4C15-8735-4D8E-B84B-8AB26970097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istribution Strategies</a:t>
            </a:r>
            <a:endParaRPr b="0" lang="en-US" sz="4800" spc="-1" strike="noStrike">
              <a:solidFill>
                <a:srgbClr val="6f6e4a"/>
              </a:solidFill>
              <a:latin typeface="Georgi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actors that can contribute to distribution cost differences among countries includ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frastructure condi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number of levels in the distribution syste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tail inefficienc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ze and operating hour restric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ventory stock-out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E812605A-0547-4320-9445-AF110A1487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rketing principles in foreign markets are similar to those in domestic marke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i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lac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However, some or all elements may need to be adapted to better fit local market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6BFCFB46-FD41-4C81-BDCC-C23025833D7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rketing Strategi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rketing strategy depends on marketing orienta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a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e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rategic marketing</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marketing</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2CFDA8F4-8F67-46E0-BE15-1F18C982945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rketing Strategies</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rms can segment and target markets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y countr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y global segmen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sing multiple criteria</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160A8375-25BD-4FD4-8300-914BBEC703E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Firms Alter Products</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rms alter products for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gal consideration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abeling requirement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vironmental protection regulation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direct legal consider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al consider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conomic consideration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3A2839A7-B14D-497C-9668-2881D2C7697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Product Line: </a:t>
            </a:r>
            <a:br>
              <a:rPr sz="4400"/>
            </a:br>
            <a:r>
              <a:rPr b="0" lang="en-US" sz="4400" spc="-1" strike="noStrike">
                <a:solidFill>
                  <a:srgbClr val="6f6e4a"/>
                </a:solidFill>
                <a:latin typeface="Georgia"/>
              </a:rPr>
              <a:t>Extent and Mix</a:t>
            </a:r>
            <a:endParaRPr b="0" lang="en-US" sz="44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duct line decisions depend 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ales and cost consider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duct life cycle consideration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E8F378D8-73AC-4919-A9FB-AEF2FC636F4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icing Strategies</a:t>
            </a:r>
            <a:endParaRPr b="0" lang="en-US" sz="48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tential obstacles in international pric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 interven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t minimum or maximum pricing</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hibit certain pricing practice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diversity</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umers may be willing to pay higher prices Wet markets in china</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4F1D8CED-C06B-4A39-8237-4E0E9679FC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icing Strategies</a:t>
            </a:r>
            <a:endParaRPr b="0" lang="en-US" sz="4800" spc="-1" strike="noStrike">
              <a:solidFill>
                <a:srgbClr val="6f6e4a"/>
              </a:solidFill>
              <a:latin typeface="Georgi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cing tactic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kimming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netration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st-plus strateg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port price escal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luctuations in currency valu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a:t>
            </a:r>
            <a:fld id="{06371029-0069-4AA0-9BD3-5DCB0EC5BB4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icing Strategies</a:t>
            </a:r>
            <a:endParaRPr b="0" lang="en-US" sz="4800" spc="-1" strike="noStrike">
              <a:solidFill>
                <a:srgbClr val="6f6e4a"/>
              </a:solidFill>
              <a:latin typeface="Georgi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ay market </a:t>
            </a:r>
            <a:r>
              <a:rPr b="0" lang="en-US" sz="2800" spc="-1" strike="noStrike">
                <a:solidFill>
                  <a:srgbClr val="666699"/>
                </a:solidFill>
                <a:latin typeface="Verdana"/>
              </a:rPr>
              <a:t>or </a:t>
            </a:r>
            <a:r>
              <a:rPr b="1" lang="en-US" sz="2800" spc="-1" strike="noStrike">
                <a:solidFill>
                  <a:srgbClr val="666699"/>
                </a:solidFill>
                <a:latin typeface="Verdana"/>
              </a:rPr>
              <a:t>product divers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selling and handling of goods through unofficial distributor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16:14:31Z</dcterms:created>
  <dc:creator>Veronica</dc:creator>
  <dc:description/>
  <dc:language>en-US</dc:language>
  <cp:lastModifiedBy>Saju Valliara Jose</cp:lastModifiedBy>
  <dcterms:modified xsi:type="dcterms:W3CDTF">2020-06-06T04:08:45Z</dcterms:modified>
  <cp:revision>26</cp:revision>
  <dc:subject/>
  <dc:title>International Business Environments &amp; Operations</dc:title>
</cp:coreProperties>
</file>