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9D0A-CEBF-47A1-83AE-3F2B3A8DAC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3813-577F-44D8-8245-AE42E140D1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Direct Investment and Collaborative Strategi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motives for collaborative arrangemen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read and reduc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ecialize in competencies – the resource-based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or counte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cure Vertical and Horizontal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ain knowledge</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C4C0-93EF-4EE9-9C31-DEA4F5F327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mo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ain location-specific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vercome governmental constrai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ersify geo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inimize risk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FC51-2BC2-43E7-AFC3-CB1F8437A9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9D8C-8FDE-4E65-A0D9-03309AEF3C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between the different types of collaborative arrangements involves tradeoffs.  The more a company depends on collaboration, the more likely it is to lose decision making control.  How much control a company is willing to give up will influence its choice of collaborative arrangement.  Similarly, companies with prior international experience in a country are less likely to benefit from a partner</a:t>
            </a:r>
            <a:r>
              <a:rPr b="0" lang="ja-JP" sz="1200" spc="-1" strike="noStrike">
                <a:solidFill>
                  <a:srgbClr val="000000"/>
                </a:solidFill>
                <a:latin typeface="Arial"/>
              </a:rPr>
              <a:t>’</a:t>
            </a:r>
            <a:r>
              <a:rPr b="0" lang="en-US" sz="1200" spc="-1" strike="noStrike">
                <a:solidFill>
                  <a:srgbClr val="000000"/>
                </a:solidFill>
                <a:latin typeface="Arial"/>
              </a:rPr>
              <a:t>s knowledge of the marke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155E-929C-4EB1-9A69-DBACCB2092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engage in licensing agreements for economic reasons such as a faster start-up, lower costs, or to gain access to additional resourc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1794-E82C-49D4-8A3C-6E33775CD6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applies to many different aspects of busines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s, inventions, formulas, processes, designs,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s for literary, musical or artistic com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marks, trade names,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hises, licenses,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programs, procedures,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0AFE-78AC-40B0-BFEC-14464DB1FB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7CAB-45A0-4250-AFC4-2B44E8C08E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9AE3-5EFE-47D7-9436-344BC7523F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may pay for managerial assistance when it believes another company can better manage its oper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80DC-2CF4-4A90-85B8-759B18E489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69C9-EF77-40C7-83C2-AF6CB5EA9B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operations are often very large, running into the hundreds of millions and even billions of dollars.  For example, a current turnkey project run by Spain</a:t>
            </a:r>
            <a:r>
              <a:rPr b="0" lang="ja-JP" sz="1200" spc="-1" strike="noStrike">
                <a:solidFill>
                  <a:srgbClr val="000000"/>
                </a:solidFill>
                <a:latin typeface="Arial"/>
              </a:rPr>
              <a:t>’</a:t>
            </a:r>
            <a:r>
              <a:rPr b="0" lang="en-US" sz="1200" spc="-1" strike="noStrike">
                <a:solidFill>
                  <a:srgbClr val="000000"/>
                </a:solidFill>
                <a:latin typeface="Arial"/>
              </a:rPr>
              <a:t>s Sacyr Vallehermoso involves building a wider Panama Cana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8FFE-BD68-4A01-A844-1542F45AD9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rning Objectives for this chapter are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larify why companies may need to use modes other than exporting to operate effectively in international busines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mprehend why and how companies make foreign direct investment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understand the major motives that guide managers when choosing a collaborative arrangement for international busines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fine the major types of collaborative arrangem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7B55-2EB9-4BA0-8807-0BFA118985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joint venture combin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Two companies from the same country joining together in a foreign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A foreign company joining with a local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Companies from two or more countries establishing a joint venture in a third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A private company and a local government forming a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A private company joining a government-owned company in a third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200A-EFE5-4438-A9D2-C5C4AC190E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9391-A04A-4A9F-B712-FA2461F837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purpose of the equity ownership is to solidify a collaborating contract, such as a supplier-buyer contract, so that it is more difficult to break</a:t>
            </a:r>
            <a:r>
              <a:rPr b="0" lang="en-US" sz="1200" spc="-1" strike="noStrike">
                <a:solidFill>
                  <a:srgbClr val="000000"/>
                </a:solidFill>
                <a:latin typeface="Arial"/>
              </a:rPr>
              <a:t>—</a:t>
            </a:r>
            <a:r>
              <a:rPr b="0" lang="en-US" sz="1200" spc="-1" strike="noStrike">
                <a:solidFill>
                  <a:srgbClr val="000000"/>
                </a:solidFill>
                <a:latin typeface="Palatino-Roman"/>
              </a:rPr>
              <a:t>particularly if the ownership is large enough to secure a board membership for the investing compan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9BC3-4B43-4EF8-BE79-8F77F4801E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at as a company increases the number of partners and decreases the amount of equity it owns in a foreign operation, its ability to control that operation decreas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B08B-55ED-4E07-B4D7-7E1B447EC4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arrangements don</a:t>
            </a:r>
            <a:r>
              <a:rPr b="0" lang="ja-JP" sz="1200" spc="-1" strike="noStrike">
                <a:solidFill>
                  <a:srgbClr val="000000"/>
                </a:solidFill>
                <a:latin typeface="Arial"/>
              </a:rPr>
              <a:t>’</a:t>
            </a:r>
            <a:r>
              <a:rPr b="0" lang="en-US" sz="1200" spc="-1" strike="noStrike">
                <a:solidFill>
                  <a:srgbClr val="000000"/>
                </a:solidFill>
                <a:latin typeface="Arial"/>
              </a:rPr>
              <a:t>t always work out.  The most common challenges involve the relative importance of the project to each company, divergent objectives, control issues, contribution issues, culture clashes, and different corporate cultur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what companies should consider when entering into international arrangements with other compan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rasp why collaborative arrangements succeed or fai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how companies can manage diverse collaborative arrangemen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how growth in project size and complexity will require more future collaboration</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0966-9F63-466E-9944-3D07678CA2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450E-A2A5-4A32-A794-86CC18DF50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that depend on foreign production may own it outright or in part, develop or acquire it, and/or use some type of collaborative arrangement with another compan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CDA9-B2DF-4B5E-AE17-19B5315FB2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it can be more advantageous to produce in foreign countries that to export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exporting is not attractive when production abroad is cheaper than at home, transportation costs to move goods or services internationally are too expensive, companies lack domestic capacity, products and services need to be altered substantially to gain sufficient consumer demand abroad, governments inhibit the import of foreign products, or buyers prefer products originating from a particula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ion abroad is cheaper than at home, when transportation costs to move goods or services internationally are too expensive, when companies lack domestic capacity, when products and services need to be altered substantially to gain sufficient consumer demand abroad, when governments inhibit the import of foreign products, and when buyers prefer products originating from a particular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ing may not be fea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ducts and services need to be altered substantially to gain sufficient consumer demand abr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overnments inhibit the import of foreign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ers prefer products originating from a particular country</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0848-9D66-41F8-84FA-664366BFC0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9ADB-FF99-4B7F-92D2-191058C5C9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vesting in a foreign country, companies can either acquire an existing facility, or build a new one.  The latter option is known as a greenfield invest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The advantages of acquiring an existing opera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dding no further capacity to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voiding start-up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Easier financing at ti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Companies may choose to build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No desired company is available for acqui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cquisition will lead to carryove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cquisition is harder to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806C-198F-49F4-B1D3-610D3FC3E9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ollaborate or form strategic alliances for many reasons.  This Figure shows both the general and the internationally specific reasons for collabo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478BF-617F-4186-99C6-DDE581734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F282B-DC68-4960-85A3-6F91CC7DD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39511-7854-431E-AB55-ECDBC136D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5EB91-C290-4A01-9C24-942B4D86D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66783-3C5E-492B-A87C-2C80F5CB7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21999-3FD8-4CF5-ADF1-89A3A0780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F9D1D-4207-406C-86F6-ABF8BB9BB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A1F55-FC9A-48F0-A6B7-14377C6F5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309A2-A55E-4A04-BDD3-BE5712E16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4CADF-B7B5-421B-8480-22815E06E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40BAB-C86D-4933-A347-AA5D22E22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1768F-7BE2-43B5-A937-F60555A58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BB33D-57AF-4430-BB71-B4CF23118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7CB5B-399F-4588-AF74-D90734597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4F170-B760-42FF-9AD9-D4E4EB90F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01B0C-0668-4388-81B4-264B10A15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8D327-F6C6-45F1-B672-1CA5A7D91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37294-4D0B-4509-A7B2-0738C0B78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EF9B-DD00-4C94-887A-4290E14D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FD278-DB95-44F2-87AF-A4475352B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1B121-D838-4BFD-8AD1-22E76B257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16639-9A62-497A-8C08-F61D6528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CE28-54CC-456D-8C1A-A4CC4C91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58A21-BD97-4A12-B02D-79679E80D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fld id="{64388E1B-CFB1-4039-9EF2-E32D184DFE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fld id="{0EA6A82E-B9D5-47A1-9593-37ABD67859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98577942-DAA8-4212-9599-5F9161DC5F9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5</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Direct Investment and Collaborative Strategie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eneral Motives for Collaborative Arrangements</a:t>
            </a:r>
            <a:endParaRPr b="0" lang="en-US" sz="4800" spc="-1" strike="noStrike">
              <a:solidFill>
                <a:srgbClr val="6f6e4a"/>
              </a:solidFill>
              <a:latin typeface="Georgia"/>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spread and reduce cos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specialize in competencies – the resource-based view</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avoid or counter competi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secure Vertical and Horizontal Link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gain knowledge</a:t>
            </a:r>
            <a:endParaRPr b="0" lang="en-US" sz="2800" spc="-1" strike="noStrike">
              <a:solidFill>
                <a:srgbClr val="666699"/>
              </a:solidFill>
              <a:latin typeface="Verdana"/>
            </a:endParaRPr>
          </a:p>
        </p:txBody>
      </p:sp>
      <p:sp>
        <p:nvSpPr>
          <p:cNvPr id="161"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9BCDBD03-7A87-49B1-BD74-850D1EBBC76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ernational Motives for Collaborative Arrangements </a:t>
            </a:r>
            <a:endParaRPr b="0" lang="en-US" sz="4800" spc="-1" strike="noStrike">
              <a:solidFill>
                <a:srgbClr val="6f6e4a"/>
              </a:solidFill>
              <a:latin typeface="Georgia"/>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gain location-specific asse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overcome governmental constrain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tecting asset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versify geographicall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minimize risk exposure</a:t>
            </a:r>
            <a:endParaRPr b="0" lang="en-US" sz="2800" spc="-1" strike="noStrike">
              <a:solidFill>
                <a:srgbClr val="666699"/>
              </a:solidFill>
              <a:latin typeface="Verdana"/>
            </a:endParaRPr>
          </a:p>
        </p:txBody>
      </p:sp>
      <p:sp>
        <p:nvSpPr>
          <p:cNvPr id="165"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5FFE838F-05DB-4D1D-AFC0-43071DCCF7E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32F451DF-0DB5-4654-BF48-33DDE4E0E96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 </a:t>
            </a:r>
            <a:endParaRPr b="0" lang="en-US" sz="4400" spc="-1" strike="noStrike">
              <a:solidFill>
                <a:srgbClr val="6f6e4a"/>
              </a:solidFill>
              <a:latin typeface="Georgi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wo key factors influence the type of collaborative arrangemen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trol</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or expans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F2DD8540-D9E4-4A64-B1CB-CD0107B339F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Licensing</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company grants intangible property rights to another company to use in a specified geographic area for a specified period in exchange for royalt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n be</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clusive or nonexclusive</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sed to protect intangible propert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6FC46361-FFAE-4F01-9603-5B5180D93F55}"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icensing</a:t>
            </a:r>
            <a:endParaRPr b="0" lang="en-US" sz="4800" spc="-1" strike="noStrike">
              <a:solidFill>
                <a:srgbClr val="6f6e4a"/>
              </a:solidFill>
              <a:latin typeface="Georgia"/>
            </a:endParaRPr>
          </a:p>
        </p:txBody>
      </p:sp>
      <p:sp>
        <p:nvSpPr>
          <p:cNvPr id="177" name="PlaceHolder 2"/>
          <p:cNvSpPr>
            <a:spLocks noGrp="1"/>
          </p:cNvSpPr>
          <p:nvPr>
            <p:ph/>
          </p:nvPr>
        </p:nvSpPr>
        <p:spPr>
          <a:xfrm>
            <a:off x="762120" y="1294920"/>
            <a:ext cx="8076960" cy="586764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icensing</a:t>
            </a:r>
            <a:endParaRPr b="0" lang="en-US" sz="28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A contractual arrangement: one firm sells access to its patents, trade secrets, or technology to another </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The right to use any kind of expertise, like manufacturing process(patented/ unpatented), marketing procedures and trademarks.</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Licensee pays fixed sum and sales royalties (2%-5%)</a:t>
            </a:r>
            <a:endParaRPr b="0" lang="en-US" sz="2000" spc="-1" strike="noStrike">
              <a:solidFill>
                <a:srgbClr val="666699"/>
              </a:solidFill>
              <a:latin typeface="Verdana"/>
            </a:endParaRPr>
          </a:p>
          <a:p>
            <a:pPr marL="343080" indent="-343080">
              <a:spcBef>
                <a:spcPts val="64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6699"/>
                </a:solidFill>
                <a:latin typeface="Verdana"/>
              </a:rPr>
              <a:t>Popular because</a:t>
            </a:r>
            <a:endParaRPr b="0" lang="en-US" sz="26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Courts have begun upholding patent infringement claims</a:t>
            </a:r>
            <a:endParaRPr b="0" lang="en-US" sz="21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Patent holders have become vigilant in suing violators</a:t>
            </a:r>
            <a:endParaRPr b="0" lang="en-US" sz="21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Foreign governments have been pressed to enforce their patent laws</a:t>
            </a:r>
            <a:endParaRPr b="0" lang="en-US" sz="21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Eg. Texas Instruments, Pierre Cardin (900 licenses in 170 countries), Cosmopolitan magazine (over 100 countries in 32 languages)</a:t>
            </a:r>
            <a:endParaRPr b="0" lang="en-US" sz="2100" spc="-1" strike="noStrike">
              <a:solidFill>
                <a:srgbClr val="666699"/>
              </a:solidFill>
              <a:latin typeface="Verdana"/>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6699"/>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7" dur="500"/>
                                        <p:tgtEl>
                                          <p:spTgt spid="17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12" dur="500"/>
                                        <p:tgtEl>
                                          <p:spTgt spid="17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17" dur="500"/>
                                        <p:tgtEl>
                                          <p:spTgt spid="177">
                                            <p:txEl>
                                              <p:pRg st="2" end="2"/>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20" dur="500"/>
                                        <p:tgtEl>
                                          <p:spTgt spid="177">
                                            <p:txEl>
                                              <p:pRg st="3" end="3"/>
                                            </p:txEl>
                                          </p:spTgt>
                                        </p:tgtEl>
                                      </p:cBhvr>
                                    </p:animEffect>
                                  </p:childTnLst>
                                </p:cTn>
                              </p:par>
                              <p:par>
                                <p:cTn id="21" nodeType="withEffect" fill="hold" presetClass="entr" presetID="5" presetSubtype="10">
                                  <p:stCondLst>
                                    <p:cond delay="0"/>
                                  </p:stCondLst>
                                  <p:childTnLst>
                                    <p:set>
                                      <p:cBhvr>
                                        <p:cTn id="22" dur="1" fill="hold">
                                          <p:stCondLst>
                                            <p:cond delay="0"/>
                                          </p:stCondLst>
                                        </p:cTn>
                                        <p:tgtEl>
                                          <p:spTgt spid="177">
                                            <p:txEl>
                                              <p:pRg st="4" end="4"/>
                                            </p:txEl>
                                          </p:spTgt>
                                        </p:tgtEl>
                                        <p:attrNameLst>
                                          <p:attrName>style.visibility</p:attrName>
                                        </p:attrNameLst>
                                      </p:cBhvr>
                                      <p:to>
                                        <p:strVal val="visible"/>
                                      </p:to>
                                    </p:set>
                                    <p:animEffect filter="checkerboard(across)" transition="in">
                                      <p:cBhvr additive="repl">
                                        <p:cTn id="23" dur="500"/>
                                        <p:tgtEl>
                                          <p:spTgt spid="177">
                                            <p:txEl>
                                              <p:pRg st="4" end="4"/>
                                            </p:txEl>
                                          </p:spTgt>
                                        </p:tgtEl>
                                      </p:cBhvr>
                                    </p:animEffect>
                                  </p:childTnLst>
                                </p:cTn>
                              </p:par>
                              <p:par>
                                <p:cTn id="24" nodeType="withEffect" fill="hold" presetClass="entr" presetID="5" presetSubtype="10">
                                  <p:stCondLst>
                                    <p:cond delay="0"/>
                                  </p:stCondLst>
                                  <p:childTnLst>
                                    <p:set>
                                      <p:cBhvr>
                                        <p:cTn id="25" dur="1" fill="hold">
                                          <p:stCondLst>
                                            <p:cond delay="0"/>
                                          </p:stCondLst>
                                        </p:cTn>
                                        <p:tgtEl>
                                          <p:spTgt spid="177">
                                            <p:txEl>
                                              <p:pRg st="5" end="5"/>
                                            </p:txEl>
                                          </p:spTgt>
                                        </p:tgtEl>
                                        <p:attrNameLst>
                                          <p:attrName>style.visibility</p:attrName>
                                        </p:attrNameLst>
                                      </p:cBhvr>
                                      <p:to>
                                        <p:strVal val="visible"/>
                                      </p:to>
                                    </p:set>
                                    <p:animEffect filter="checkerboard(across)" transition="in">
                                      <p:cBhvr additive="repl">
                                        <p:cTn id="26" dur="500"/>
                                        <p:tgtEl>
                                          <p:spTgt spid="177">
                                            <p:txEl>
                                              <p:pRg st="5" end="5"/>
                                            </p:txEl>
                                          </p:spTgt>
                                        </p:tgtEl>
                                      </p:cBhvr>
                                    </p:animEffect>
                                  </p:childTnLst>
                                </p:cTn>
                              </p:par>
                              <p:par>
                                <p:cTn id="27" nodeType="withEffect" fill="hold" presetClass="entr" presetID="5" presetSubtype="10">
                                  <p:stCondLst>
                                    <p:cond delay="0"/>
                                  </p:stCondLst>
                                  <p:childTnLst>
                                    <p:set>
                                      <p:cBhvr>
                                        <p:cTn id="28" dur="1" fill="hold">
                                          <p:stCondLst>
                                            <p:cond delay="0"/>
                                          </p:stCondLst>
                                        </p:cTn>
                                        <p:tgtEl>
                                          <p:spTgt spid="177">
                                            <p:txEl>
                                              <p:pRg st="6" end="6"/>
                                            </p:txEl>
                                          </p:spTgt>
                                        </p:tgtEl>
                                        <p:attrNameLst>
                                          <p:attrName>style.visibility</p:attrName>
                                        </p:attrNameLst>
                                      </p:cBhvr>
                                      <p:to>
                                        <p:strVal val="visible"/>
                                      </p:to>
                                    </p:set>
                                    <p:animEffect filter="checkerboard(across)" transition="in">
                                      <p:cBhvr additive="repl">
                                        <p:cTn id="29" dur="500"/>
                                        <p:tgtEl>
                                          <p:spTgt spid="177">
                                            <p:txEl>
                                              <p:pRg st="6" end="6"/>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77">
                                            <p:txEl>
                                              <p:pRg st="7" end="7"/>
                                            </p:txEl>
                                          </p:spTgt>
                                        </p:tgtEl>
                                        <p:attrNameLst>
                                          <p:attrName>style.visibility</p:attrName>
                                        </p:attrNameLst>
                                      </p:cBhvr>
                                      <p:to>
                                        <p:strVal val="visible"/>
                                      </p:to>
                                    </p:set>
                                    <p:animEffect filter="checkerboard(across)" transition="in">
                                      <p:cBhvr additive="repl">
                                        <p:cTn id="32" dur="500"/>
                                        <p:tgtEl>
                                          <p:spTgt spid="177">
                                            <p:txEl>
                                              <p:pRg st="7" end="7"/>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177">
                                            <p:txEl>
                                              <p:pRg st="8" end="8"/>
                                            </p:txEl>
                                          </p:spTgt>
                                        </p:tgtEl>
                                        <p:attrNameLst>
                                          <p:attrName>style.visibility</p:attrName>
                                        </p:attrNameLst>
                                      </p:cBhvr>
                                      <p:to>
                                        <p:strVal val="visible"/>
                                      </p:to>
                                    </p:set>
                                    <p:animEffect filter="checkerboard(across)" transition="in">
                                      <p:cBhvr additive="repl">
                                        <p:cTn id="35"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icensing Applications</a:t>
            </a:r>
            <a:endParaRPr b="0" lang="en-US" sz="4800" spc="-1" strike="noStrike">
              <a:solidFill>
                <a:srgbClr val="6f6e4a"/>
              </a:solidFill>
              <a:latin typeface="Georgia"/>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atents, inventions, formulas, processes, designs, patter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pyrights for literary, musical or artistic compositio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rademarks, trade names, brand nam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ethods, programs, procedures, systems </a:t>
            </a:r>
            <a:endParaRPr b="0" lang="en-US" sz="2800" spc="-1" strike="noStrike">
              <a:solidFill>
                <a:srgbClr val="666699"/>
              </a:solidFill>
              <a:latin typeface="Verdana"/>
            </a:endParaRPr>
          </a:p>
        </p:txBody>
      </p:sp>
      <p:sp>
        <p:nvSpPr>
          <p:cNvPr id="180"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FD65C2CB-E58A-4738-901D-9FDEF0BD3F3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52F57166-22B8-43CE-9C8C-2B3098CF7FD0}"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ranchising</a:t>
            </a:r>
            <a:endParaRPr b="0" lang="en-US" sz="4800" spc="-1" strike="noStrike">
              <a:solidFill>
                <a:srgbClr val="6f6e4a"/>
              </a:solidFill>
              <a:latin typeface="Georgi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anchising</a:t>
            </a:r>
            <a:endParaRPr b="0" lang="en-US" sz="28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m of licensing in which one firm contracts with another to operate a certain type of business under an established name according to specific ru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g. McDonald’s, KFC, Subwa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cDonald’s has over 30,000 restaurants in 120 countries outside U.S.</a:t>
            </a:r>
            <a:endParaRPr b="0" lang="en-US" sz="2400" spc="-1" strike="noStrike">
              <a:solidFill>
                <a:srgbClr val="666699"/>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2CB692F2-0893-4475-B8E4-E975F622B58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Verdana"/>
              </a:rPr>
              <a:t>Management contract</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mpany is paid a fee to transfer management personnel and administrative know-how abroad to assist a compan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reign management contracts are used primarily when the foreign company can manage better than the owner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29BD6627-AB51-4EF4-8FA1-BB11942D202A}"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ntracts</a:t>
            </a:r>
            <a:endParaRPr b="0" lang="en-US" sz="4800" spc="-1" strike="noStrike">
              <a:solidFill>
                <a:srgbClr val="6f6e4a"/>
              </a:solidFill>
              <a:latin typeface="Georgia"/>
            </a:endParaRPr>
          </a:p>
        </p:txBody>
      </p:sp>
      <p:sp>
        <p:nvSpPr>
          <p:cNvPr id="191" name="PlaceHolder 2"/>
          <p:cNvSpPr>
            <a:spLocks noGrp="1"/>
          </p:cNvSpPr>
          <p:nvPr>
            <p:ph/>
          </p:nvPr>
        </p:nvSpPr>
        <p:spPr>
          <a:xfrm>
            <a:off x="761760" y="1600200"/>
            <a:ext cx="7924680" cy="495288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ment Contrac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rrangement by which one firm provides management in all or specific areas to another firm by a fee (2-5% of sa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g. Hilton hotel provides management for nonowned overseas hotels that use the Hilton nam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tract Manufactur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rrangement in which one firm contracts with another to produce products to its specifications but assumes responsibility for marketing the products under its own brand.</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1056FF3B-2C90-4F3A-BA72-4347ADEC09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Verdana"/>
              </a:rPr>
              <a:t>Turnkey operation</a:t>
            </a:r>
            <a:r>
              <a:rPr b="0" lang="en-US" sz="3200" spc="-1" strike="noStrike">
                <a:solidFill>
                  <a:srgbClr val="666699"/>
                </a:solidFill>
                <a:latin typeface="Verdana"/>
              </a:rPr>
              <a:t> </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ne company contracts with another to build complete, ready-to-operate faciliti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commonly performed by industrial-equipment, construction, and consulting compani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ften performed for a governmental agency</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75C6ACE4-AF5A-476B-B8E6-8888CA09294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arify why companies may use modes other than exporting to operate effectively in international business </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rehend why and how companies make foreign direct investment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nderstand the major motives that guide managers to choose a collaborative arrangement for international busines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re the major types of collaborative arrangement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D7F30DC8-A275-4A13-B6FB-2452453D097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Joint ventur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volve more than two companies, one of which may own more than 50 percent</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y have various combinations of ownership</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consortium</a:t>
            </a:r>
            <a:r>
              <a:rPr b="0" lang="en-US" sz="2800" spc="-1" strike="noStrike">
                <a:solidFill>
                  <a:srgbClr val="666699"/>
                </a:solidFill>
                <a:latin typeface="Verdana"/>
              </a:rPr>
              <a:t> involves more than two organizations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9DDCE935-7B6A-400B-A605-A18367C683C0}"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Joint Venture</a:t>
            </a:r>
            <a:endParaRPr b="0" lang="en-US" sz="48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Cooperative effort among two or more organizations that share common interest in  business enterpris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A Joint venture may be-</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corporate entity formed by </a:t>
            </a:r>
            <a:r>
              <a:rPr b="0" lang="en-US" sz="2400" spc="-1" strike="noStrike">
                <a:solidFill>
                  <a:srgbClr val="0070c0"/>
                </a:solidFill>
                <a:latin typeface="Times New Roman"/>
                <a:ea typeface="Times New Roman"/>
              </a:rPr>
              <a:t>international company and local owner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corporate entity formed by </a:t>
            </a:r>
            <a:r>
              <a:rPr b="0" lang="en-US" sz="2400" spc="-1" strike="noStrike">
                <a:solidFill>
                  <a:srgbClr val="0070c0"/>
                </a:solidFill>
                <a:latin typeface="Times New Roman"/>
                <a:ea typeface="Times New Roman"/>
              </a:rPr>
              <a:t>two international companies for the purpose of doing business in a third market </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a corporate entity formed by </a:t>
            </a:r>
            <a:r>
              <a:rPr b="0" lang="en-US" sz="2400" spc="-1" strike="noStrike">
                <a:solidFill>
                  <a:srgbClr val="0070c0"/>
                </a:solidFill>
                <a:latin typeface="Times New Roman"/>
                <a:ea typeface="Times New Roman"/>
              </a:rPr>
              <a:t>a government &amp; an international firm</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A cooperative undertaking </a:t>
            </a:r>
            <a:r>
              <a:rPr b="0" lang="en-US" sz="2400" spc="-1" strike="noStrike">
                <a:solidFill>
                  <a:srgbClr val="0070c0"/>
                </a:solidFill>
                <a:latin typeface="Times New Roman"/>
                <a:ea typeface="Times New Roman"/>
              </a:rPr>
              <a:t>between two or more firms of a limited duration project. Eg. Airport projects</a:t>
            </a:r>
            <a:endParaRPr b="0" lang="en-US" sz="2400" spc="-1" strike="noStrike">
              <a:solidFill>
                <a:srgbClr val="666699"/>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Joint Venture Contd.</a:t>
            </a:r>
            <a:endParaRPr b="0" lang="en-US" sz="4800" spc="-1" strike="noStrike">
              <a:solidFill>
                <a:srgbClr val="6f6e4a"/>
              </a:solidFill>
              <a:latin typeface="Georgia"/>
            </a:endParaRPr>
          </a:p>
        </p:txBody>
      </p:sp>
      <p:sp>
        <p:nvSpPr>
          <p:cNvPr id="204" name=""/>
          <p:cNvSpPr txBox="1"/>
          <p:nvPr/>
        </p:nvSpPr>
        <p:spPr>
          <a:xfrm>
            <a:off x="457200" y="1599840"/>
            <a:ext cx="8229600" cy="4530600"/>
          </a:xfrm>
          <a:prstGeom prst="rect">
            <a:avLst/>
          </a:prstGeom>
          <a:noFill/>
          <a:ln w="0">
            <a:noFill/>
          </a:ln>
        </p:spPr>
        <p:txBody>
          <a:bodyPr anchor="t">
            <a:normAutofit fontScale="97000"/>
          </a:bodyPr>
          <a:p>
            <a:pPr lvl="2" marL="332640" indent="-332640">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sinesses may enter a joint venture for other reasons: </a:t>
            </a:r>
            <a:endParaRPr b="0" lang="en-US" sz="24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he ability to acquire expertise that is lacking,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pecial tax benefits,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o reduce investment risk,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chievement of economies of scale eg. Ford &amp; Volkswagen</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need for additional capital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experienced personnel.</a:t>
            </a:r>
            <a:endParaRPr b="0" lang="en-US" sz="2800" spc="-1" strike="noStrike">
              <a:solidFill>
                <a:srgbClr val="666699"/>
              </a:solidFill>
              <a:latin typeface="Verdana"/>
            </a:endParaRPr>
          </a:p>
          <a:p>
            <a:pPr marL="332640" indent="-33264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5"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4BA8EE2C-DC00-422D-B471-C6AAB2EC4964}"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ew More Examples of JV</a:t>
            </a:r>
            <a:endParaRPr b="0" lang="en-US" sz="4800" spc="-1" strike="noStrike">
              <a:solidFill>
                <a:srgbClr val="6f6e4a"/>
              </a:solidFill>
              <a:latin typeface="Georgia"/>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ir Hong Kong (Cathay Pacific + DHL Expres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uto Alliance International (Ford + Mazda)</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ny Ericss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 Habtoor- Leight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 Jaber- Zublin</a:t>
            </a:r>
            <a:endParaRPr b="0" lang="en-US" sz="2800" spc="-1" strike="noStrike">
              <a:solidFill>
                <a:srgbClr val="66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8"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956F7199-0AA3-4A15-9881-836C821B5398}"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2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EBCCC281-155B-4B08-B931-03715635F5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quity allianc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arrangement in which at least one of the companies takes an ownership position in the other</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2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9E2A7F9A-8DB9-4CE8-BF25-8DD7656A17A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ollaborative Strategy and  Complexity of Control</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17" name="Picture 1" descr="FG_15_006.eps"/>
          <p:cNvPicPr/>
          <p:nvPr/>
        </p:nvPicPr>
        <p:blipFill>
          <a:blip r:embed="rId1"/>
          <a:stretch/>
        </p:blipFill>
        <p:spPr>
          <a:xfrm>
            <a:off x="457200" y="1981080"/>
            <a:ext cx="807732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D2B203F4-A937-4F6A-B164-A8DB355887A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roblems with </a:t>
            </a:r>
            <a:br>
              <a:rPr sz="4400"/>
            </a:br>
            <a:r>
              <a:rPr b="0" lang="en-US" sz="4400" spc="-1" strike="noStrike">
                <a:solidFill>
                  <a:srgbClr val="6f6e4a"/>
                </a:solidFill>
                <a:latin typeface="Georgia"/>
              </a:rPr>
              <a:t>Collaborative Arrangements</a:t>
            </a:r>
            <a:endParaRPr b="0" lang="en-US" sz="4400" spc="-1" strike="noStrike">
              <a:solidFill>
                <a:srgbClr val="6f6e4a"/>
              </a:solidFill>
              <a:latin typeface="Georgia"/>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s with collaborative arrangements includ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lative importan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vergent objectiv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Questions of contro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rative contributions and appropria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e clashe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fferences in corporate cultur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nsfer of Technology</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scribe what to consider when entering into international arrangements with other companie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asp why collaborative arrangements succeed or fail</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07"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C0DD5C82-BDE6-4C89-8A46-C681278E133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D08936E7-CE0A-4D42-B40D-6F5A89C93F6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choose an international operating mode to achieve their objective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exporting and importing is not possible, firms must explore other option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fld id="{4FC1EDD4-BF56-4727-AF59-473050BC2712}"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14"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grpSp>
        <p:nvGrpSpPr>
          <p:cNvPr id="115" name="Group 3"/>
          <p:cNvGrpSpPr/>
          <p:nvPr/>
        </p:nvGrpSpPr>
        <p:grpSpPr>
          <a:xfrm>
            <a:off x="2666880" y="2666880"/>
            <a:ext cx="6211800" cy="1965240"/>
            <a:chOff x="2666880" y="2666880"/>
            <a:chExt cx="6211800" cy="1965240"/>
          </a:xfrm>
        </p:grpSpPr>
        <p:sp>
          <p:nvSpPr>
            <p:cNvPr id="116" name="Rectangle 4"/>
            <p:cNvSpPr/>
            <p:nvPr/>
          </p:nvSpPr>
          <p:spPr>
            <a:xfrm>
              <a:off x="6044760" y="266688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sp>
          <p:nvSpPr>
            <p:cNvPr id="117" name="Freeform 5"/>
            <p:cNvSpPr/>
            <p:nvPr/>
          </p:nvSpPr>
          <p:spPr>
            <a:xfrm>
              <a:off x="2666880" y="2687400"/>
              <a:ext cx="3373200" cy="1944720"/>
            </a:xfrm>
            <a:custGeom>
              <a:avLst/>
              <a:gdLst>
                <a:gd name="textAreaLeft" fmla="*/ 0 w 3373200"/>
                <a:gd name="textAreaRight" fmla="*/ 3373560 w 3373200"/>
                <a:gd name="textAreaTop" fmla="*/ 0 h 1944720"/>
                <a:gd name="textAreaBottom" fmla="*/ 1945080 h 1944720"/>
              </a:gdLst>
              <a:ahLst/>
              <a:rect l="textAreaLeft" t="textAreaTop" r="textAreaRight" b="textAreaBottom"/>
              <a:pathLst>
                <a:path w="2125" h="1225">
                  <a:moveTo>
                    <a:pt x="2124" y="0"/>
                  </a:moveTo>
                  <a:lnTo>
                    <a:pt x="2124" y="648"/>
                  </a:lnTo>
                  <a:lnTo>
                    <a:pt x="0" y="1224"/>
                  </a:lnTo>
                  <a:lnTo>
                    <a:pt x="2124"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6"/>
            <p:cNvSpPr/>
            <p:nvPr/>
          </p:nvSpPr>
          <p:spPr>
            <a:xfrm>
              <a:off x="2673000" y="3703680"/>
              <a:ext cx="6205680" cy="928440"/>
            </a:xfrm>
            <a:custGeom>
              <a:avLst/>
              <a:gdLst>
                <a:gd name="textAreaLeft" fmla="*/ 0 w 6205680"/>
                <a:gd name="textAreaRight" fmla="*/ 6206040 w 6205680"/>
                <a:gd name="textAreaTop" fmla="*/ 0 h 928440"/>
                <a:gd name="textAreaBottom" fmla="*/ 928800 h 928440"/>
              </a:gdLst>
              <a:ahLst/>
              <a:rect l="textAreaLeft" t="textAreaTop" r="textAreaRight" b="textAreaBottom"/>
              <a:pathLst>
                <a:path w="3909" h="585">
                  <a:moveTo>
                    <a:pt x="3908" y="0"/>
                  </a:moveTo>
                  <a:lnTo>
                    <a:pt x="0" y="584"/>
                  </a:lnTo>
                  <a:lnTo>
                    <a:pt x="2130" y="0"/>
                  </a:lnTo>
                  <a:lnTo>
                    <a:pt x="3908"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9" name="Group 7"/>
          <p:cNvGrpSpPr/>
          <p:nvPr/>
        </p:nvGrpSpPr>
        <p:grpSpPr>
          <a:xfrm>
            <a:off x="2362320" y="4038480"/>
            <a:ext cx="6216480" cy="2022480"/>
            <a:chOff x="2362320" y="4038480"/>
            <a:chExt cx="6216480" cy="2022480"/>
          </a:xfrm>
        </p:grpSpPr>
        <p:sp>
          <p:nvSpPr>
            <p:cNvPr id="120" name="Rectangle 8"/>
            <p:cNvSpPr/>
            <p:nvPr/>
          </p:nvSpPr>
          <p:spPr>
            <a:xfrm>
              <a:off x="5778360" y="501336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sp>
          <p:nvSpPr>
            <p:cNvPr id="121" name="Freeform 9"/>
            <p:cNvSpPr/>
            <p:nvPr/>
          </p:nvSpPr>
          <p:spPr>
            <a:xfrm>
              <a:off x="2413080" y="4038480"/>
              <a:ext cx="3360600" cy="2022480"/>
            </a:xfrm>
            <a:custGeom>
              <a:avLst/>
              <a:gdLst>
                <a:gd name="textAreaLeft" fmla="*/ 0 w 3360600"/>
                <a:gd name="textAreaRight" fmla="*/ 3360960 w 3360600"/>
                <a:gd name="textAreaTop" fmla="*/ 0 h 2022480"/>
                <a:gd name="textAreaBottom" fmla="*/ 2022840 h 2022480"/>
              </a:gdLst>
              <a:ahLst/>
              <a:rect l="textAreaLeft" t="textAreaTop" r="textAreaRight" b="textAreaBottom"/>
              <a:pathLst>
                <a:path w="2117" h="1274">
                  <a:moveTo>
                    <a:pt x="2116" y="1273"/>
                  </a:moveTo>
                  <a:lnTo>
                    <a:pt x="2116" y="625"/>
                  </a:lnTo>
                  <a:lnTo>
                    <a:pt x="0" y="0"/>
                  </a:lnTo>
                  <a:lnTo>
                    <a:pt x="2116" y="1273"/>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Freeform 10"/>
            <p:cNvSpPr/>
            <p:nvPr/>
          </p:nvSpPr>
          <p:spPr>
            <a:xfrm>
              <a:off x="2362320" y="4038480"/>
              <a:ext cx="6211800" cy="993960"/>
            </a:xfrm>
            <a:custGeom>
              <a:avLst/>
              <a:gdLst>
                <a:gd name="textAreaLeft" fmla="*/ 0 w 6211800"/>
                <a:gd name="textAreaRight" fmla="*/ 6212160 w 6211800"/>
                <a:gd name="textAreaTop" fmla="*/ 0 h 993960"/>
                <a:gd name="textAreaBottom" fmla="*/ 994320 h 993960"/>
              </a:gdLst>
              <a:ahLst/>
              <a:rect l="textAreaLeft" t="textAreaTop" r="textAreaRight" b="textAreaBottom"/>
              <a:pathLst>
                <a:path w="3913" h="626">
                  <a:moveTo>
                    <a:pt x="3912" y="625"/>
                  </a:moveTo>
                  <a:lnTo>
                    <a:pt x="0" y="0"/>
                  </a:lnTo>
                  <a:lnTo>
                    <a:pt x="2140" y="625"/>
                  </a:lnTo>
                  <a:lnTo>
                    <a:pt x="3912" y="625"/>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23" name="Group 11"/>
          <p:cNvGrpSpPr/>
          <p:nvPr/>
        </p:nvGrpSpPr>
        <p:grpSpPr>
          <a:xfrm>
            <a:off x="1447920" y="3505320"/>
            <a:ext cx="4266720" cy="3123720"/>
            <a:chOff x="1447920" y="3505320"/>
            <a:chExt cx="4266720" cy="3123720"/>
          </a:xfrm>
        </p:grpSpPr>
        <p:sp>
          <p:nvSpPr>
            <p:cNvPr id="124" name="Freeform 12"/>
            <p:cNvSpPr/>
            <p:nvPr/>
          </p:nvSpPr>
          <p:spPr>
            <a:xfrm>
              <a:off x="1476720" y="3505320"/>
              <a:ext cx="1082520" cy="3114000"/>
            </a:xfrm>
            <a:custGeom>
              <a:avLst/>
              <a:gdLst>
                <a:gd name="textAreaLeft" fmla="*/ 0 w 1082520"/>
                <a:gd name="textAreaRight" fmla="*/ 1082880 w 1082520"/>
                <a:gd name="textAreaTop" fmla="*/ 0 h 3114000"/>
                <a:gd name="textAreaBottom" fmla="*/ 3114360 h 3114000"/>
              </a:gdLst>
              <a:ahLst/>
              <a:rect l="textAreaLeft" t="textAreaTop" r="textAreaRight" b="textAreaBottom"/>
              <a:pathLst>
                <a:path w="602" h="1649">
                  <a:moveTo>
                    <a:pt x="594" y="1648"/>
                  </a:moveTo>
                  <a:lnTo>
                    <a:pt x="601" y="992"/>
                  </a:lnTo>
                  <a:lnTo>
                    <a:pt x="0" y="0"/>
                  </a:lnTo>
                  <a:lnTo>
                    <a:pt x="594" y="1648"/>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Freeform 13"/>
            <p:cNvSpPr/>
            <p:nvPr/>
          </p:nvSpPr>
          <p:spPr>
            <a:xfrm>
              <a:off x="1447920" y="3505320"/>
              <a:ext cx="4259520" cy="1875240"/>
            </a:xfrm>
            <a:custGeom>
              <a:avLst/>
              <a:gdLst>
                <a:gd name="textAreaLeft" fmla="*/ 0 w 4259520"/>
                <a:gd name="textAreaRight" fmla="*/ 4259880 w 4259520"/>
                <a:gd name="textAreaTop" fmla="*/ 0 h 1875240"/>
                <a:gd name="textAreaBottom" fmla="*/ 1875600 h 1875240"/>
              </a:gdLst>
              <a:ahLst/>
              <a:rect l="textAreaLeft" t="textAreaTop" r="textAreaRight" b="textAreaBottom"/>
              <a:pathLst>
                <a:path w="2368" h="993">
                  <a:moveTo>
                    <a:pt x="2367" y="992"/>
                  </a:moveTo>
                  <a:lnTo>
                    <a:pt x="0" y="0"/>
                  </a:lnTo>
                  <a:lnTo>
                    <a:pt x="600" y="992"/>
                  </a:lnTo>
                  <a:lnTo>
                    <a:pt x="2367" y="992"/>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6" name="Rectangle 14"/>
            <p:cNvSpPr/>
            <p:nvPr/>
          </p:nvSpPr>
          <p:spPr>
            <a:xfrm>
              <a:off x="2541600" y="5388120"/>
              <a:ext cx="3173040" cy="1240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grpSp>
      <p:grpSp>
        <p:nvGrpSpPr>
          <p:cNvPr id="127" name="Group 15"/>
          <p:cNvGrpSpPr/>
          <p:nvPr/>
        </p:nvGrpSpPr>
        <p:grpSpPr>
          <a:xfrm>
            <a:off x="2286000" y="3886200"/>
            <a:ext cx="6553080" cy="1042920"/>
            <a:chOff x="2286000" y="3886200"/>
            <a:chExt cx="6553080" cy="1042920"/>
          </a:xfrm>
        </p:grpSpPr>
        <p:sp>
          <p:nvSpPr>
            <p:cNvPr id="128" name="Freeform 16"/>
            <p:cNvSpPr/>
            <p:nvPr/>
          </p:nvSpPr>
          <p:spPr>
            <a:xfrm>
              <a:off x="2286000" y="3886200"/>
              <a:ext cx="3754080" cy="1042920"/>
            </a:xfrm>
            <a:custGeom>
              <a:avLst/>
              <a:gdLst>
                <a:gd name="textAreaLeft" fmla="*/ 0 w 3754080"/>
                <a:gd name="textAreaRight" fmla="*/ 3754440 w 3754080"/>
                <a:gd name="textAreaTop" fmla="*/ 0 h 1042920"/>
                <a:gd name="textAreaBottom" fmla="*/ 1043280 h 1042920"/>
              </a:gdLst>
              <a:ahLst/>
              <a:rect l="textAreaLeft" t="textAreaTop" r="textAreaRight" b="textAreaBottom"/>
              <a:pathLst>
                <a:path w="2365" h="657">
                  <a:moveTo>
                    <a:pt x="2364" y="656"/>
                  </a:moveTo>
                  <a:lnTo>
                    <a:pt x="0" y="324"/>
                  </a:lnTo>
                  <a:lnTo>
                    <a:pt x="2364" y="0"/>
                  </a:lnTo>
                  <a:lnTo>
                    <a:pt x="2364" y="656"/>
                  </a:lnTo>
                </a:path>
              </a:pathLst>
            </a:custGeom>
            <a:blipFill rotWithShape="0">
              <a:blip r:embed="rId7"/>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 name="Rectangle 17"/>
            <p:cNvSpPr/>
            <p:nvPr/>
          </p:nvSpPr>
          <p:spPr>
            <a:xfrm>
              <a:off x="6038640" y="388620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grpSp>
      <p:grpSp>
        <p:nvGrpSpPr>
          <p:cNvPr id="130" name="Group 18"/>
          <p:cNvGrpSpPr/>
          <p:nvPr/>
        </p:nvGrpSpPr>
        <p:grpSpPr>
          <a:xfrm>
            <a:off x="2057400" y="2133720"/>
            <a:ext cx="3770280" cy="2307960"/>
            <a:chOff x="2057400" y="2133720"/>
            <a:chExt cx="3770280" cy="2307960"/>
          </a:xfrm>
        </p:grpSpPr>
        <p:sp>
          <p:nvSpPr>
            <p:cNvPr id="131" name="Rectangle 19"/>
            <p:cNvSpPr/>
            <p:nvPr/>
          </p:nvSpPr>
          <p:spPr>
            <a:xfrm>
              <a:off x="3021120" y="213372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sp>
          <p:nvSpPr>
            <p:cNvPr id="132" name="Freeform 20"/>
            <p:cNvSpPr/>
            <p:nvPr/>
          </p:nvSpPr>
          <p:spPr>
            <a:xfrm>
              <a:off x="2062080" y="2154240"/>
              <a:ext cx="954360" cy="2287440"/>
            </a:xfrm>
            <a:custGeom>
              <a:avLst/>
              <a:gdLst>
                <a:gd name="textAreaLeft" fmla="*/ 0 w 954360"/>
                <a:gd name="textAreaRight" fmla="*/ 954720 w 954360"/>
                <a:gd name="textAreaTop" fmla="*/ 0 h 2287440"/>
                <a:gd name="textAreaBottom" fmla="*/ 2287800 h 2287440"/>
              </a:gdLst>
              <a:ahLst/>
              <a:rect l="textAreaLeft" t="textAreaTop" r="textAreaRight" b="textAreaBottom"/>
              <a:pathLst>
                <a:path w="601" h="1441">
                  <a:moveTo>
                    <a:pt x="600" y="0"/>
                  </a:moveTo>
                  <a:lnTo>
                    <a:pt x="600" y="647"/>
                  </a:lnTo>
                  <a:lnTo>
                    <a:pt x="0" y="1440"/>
                  </a:lnTo>
                  <a:lnTo>
                    <a:pt x="600" y="0"/>
                  </a:lnTo>
                </a:path>
              </a:pathLst>
            </a:custGeom>
            <a:blipFill rotWithShape="0">
              <a:blip r:embed="rId8"/>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Freeform 21"/>
            <p:cNvSpPr/>
            <p:nvPr/>
          </p:nvSpPr>
          <p:spPr>
            <a:xfrm>
              <a:off x="2057400" y="3181320"/>
              <a:ext cx="3770280" cy="1260360"/>
            </a:xfrm>
            <a:custGeom>
              <a:avLst/>
              <a:gdLst>
                <a:gd name="textAreaLeft" fmla="*/ 0 w 3770280"/>
                <a:gd name="textAreaRight" fmla="*/ 3770280 w 3770280"/>
                <a:gd name="textAreaTop" fmla="*/ 0 h 1260360"/>
                <a:gd name="textAreaBottom" fmla="*/ 1260720 h 1260360"/>
              </a:gdLst>
              <a:ahLst/>
              <a:rect l="textAreaLeft" t="textAreaTop" r="textAreaRight" b="textAreaBottom"/>
              <a:pathLst>
                <a:path w="2375" h="794">
                  <a:moveTo>
                    <a:pt x="2374" y="0"/>
                  </a:moveTo>
                  <a:lnTo>
                    <a:pt x="0" y="793"/>
                  </a:lnTo>
                  <a:lnTo>
                    <a:pt x="607" y="1"/>
                  </a:lnTo>
                  <a:lnTo>
                    <a:pt x="2374" y="0"/>
                  </a:lnTo>
                </a:path>
              </a:pathLst>
            </a:custGeom>
            <a:blipFill rotWithShape="0">
              <a:blip r:embed="rId9"/>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34" name="Rectangle 22"/>
          <p:cNvSpPr/>
          <p:nvPr/>
        </p:nvSpPr>
        <p:spPr>
          <a:xfrm>
            <a:off x="1447920" y="3276720"/>
            <a:ext cx="25905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5" name="Object 23" descr=""/>
          <p:cNvPicPr/>
          <p:nvPr/>
        </p:nvPicPr>
        <p:blipFill>
          <a:blip r:embed="rId10"/>
          <a:stretch/>
        </p:blipFill>
        <p:spPr>
          <a:xfrm>
            <a:off x="1600200" y="3352680"/>
            <a:ext cx="2346480" cy="1806840"/>
          </a:xfrm>
          <a:prstGeom prst="rect">
            <a:avLst/>
          </a:prstGeom>
          <a:ln w="0">
            <a:noFill/>
          </a:ln>
        </p:spPr>
      </p:pic>
      <p:sp>
        <p:nvSpPr>
          <p:cNvPr id="136" name="Text Box 24"/>
          <p:cNvSpPr/>
          <p:nvPr/>
        </p:nvSpPr>
        <p:spPr>
          <a:xfrm>
            <a:off x="3208320" y="2438280"/>
            <a:ext cx="24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ort-import trade</a:t>
            </a:r>
            <a:endParaRPr b="0" lang="en-US" sz="1800" spc="-1" strike="noStrike">
              <a:solidFill>
                <a:srgbClr val="000000"/>
              </a:solidFill>
              <a:latin typeface="Verdana"/>
            </a:endParaRPr>
          </a:p>
        </p:txBody>
      </p:sp>
      <p:sp>
        <p:nvSpPr>
          <p:cNvPr id="137" name="Text Box 25"/>
          <p:cNvSpPr/>
          <p:nvPr/>
        </p:nvSpPr>
        <p:spPr>
          <a:xfrm>
            <a:off x="6606000" y="2819520"/>
            <a:ext cx="1841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eign direct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vestment </a:t>
            </a:r>
            <a:endParaRPr b="0" lang="en-US" sz="1800" spc="-1" strike="noStrike">
              <a:solidFill>
                <a:srgbClr val="000000"/>
              </a:solidFill>
              <a:latin typeface="Verdana"/>
            </a:endParaRPr>
          </a:p>
        </p:txBody>
      </p:sp>
      <p:sp>
        <p:nvSpPr>
          <p:cNvPr id="138" name="Text Box 26"/>
          <p:cNvSpPr/>
          <p:nvPr/>
        </p:nvSpPr>
        <p:spPr>
          <a:xfrm>
            <a:off x="6933240" y="419112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censing</a:t>
            </a:r>
            <a:endParaRPr b="0" lang="en-US" sz="1800" spc="-1" strike="noStrike">
              <a:solidFill>
                <a:srgbClr val="000000"/>
              </a:solidFill>
              <a:latin typeface="Verdana"/>
            </a:endParaRPr>
          </a:p>
        </p:txBody>
      </p:sp>
      <p:sp>
        <p:nvSpPr>
          <p:cNvPr id="139" name="Text Box 27"/>
          <p:cNvSpPr/>
          <p:nvPr/>
        </p:nvSpPr>
        <p:spPr>
          <a:xfrm>
            <a:off x="6625800" y="533412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anchising</a:t>
            </a:r>
            <a:endParaRPr b="0" lang="en-US" sz="1800" spc="-1" strike="noStrike">
              <a:solidFill>
                <a:srgbClr val="000000"/>
              </a:solidFill>
              <a:latin typeface="Verdana"/>
            </a:endParaRPr>
          </a:p>
        </p:txBody>
      </p:sp>
      <p:sp>
        <p:nvSpPr>
          <p:cNvPr id="140" name="Text Box 28"/>
          <p:cNvSpPr/>
          <p:nvPr/>
        </p:nvSpPr>
        <p:spPr>
          <a:xfrm>
            <a:off x="2879640" y="575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Text Box 29"/>
          <p:cNvSpPr/>
          <p:nvPr/>
        </p:nvSpPr>
        <p:spPr>
          <a:xfrm>
            <a:off x="2650680" y="5867280"/>
            <a:ext cx="28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 contrac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5B1E3238-9206-40EE-BC9F-9126BB0BC0F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y Exporting May </a:t>
            </a:r>
            <a:br>
              <a:rPr sz="4400"/>
            </a:br>
            <a:r>
              <a:rPr b="0" lang="en-US" sz="4400" spc="-1" strike="noStrike">
                <a:solidFill>
                  <a:srgbClr val="6f6e4a"/>
                </a:solidFill>
                <a:latin typeface="Georgia"/>
              </a:rPr>
              <a:t>Not Be Feasible</a:t>
            </a:r>
            <a:endParaRPr b="0" lang="en-US" sz="4400" spc="-1" strike="noStrike">
              <a:solidFill>
                <a:srgbClr val="6f6e4a"/>
              </a:solidFill>
              <a:latin typeface="Georgi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production abroad is cheaper than at hom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transportation costs to move goods or services internationally are too expensiv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companies lack domestic capacity</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a:solidFill>
                  <a:srgbClr val="6f6e4a"/>
                </a:solidFill>
                <a:latin typeface="Georgia"/>
              </a:rPr>
              <a:t>Why Exporting May Not Be Feasible</a:t>
            </a:r>
            <a:endParaRPr b="0" lang="en-US" sz="4400" spc="-1" strike="noStrike">
              <a:solidFill>
                <a:srgbClr val="6f6e4a"/>
              </a:solidFill>
              <a:latin typeface="Georgia"/>
            </a:endParaRPr>
          </a:p>
        </p:txBody>
      </p:sp>
      <p:sp>
        <p:nvSpPr>
          <p:cNvPr id="14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products and services need to be altered substantially to gain sufficient consumer demand abroad</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governments inhibit the import of foreign produc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buyers prefer products originating from a particular countr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48"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1401C666-C659-40CF-A4F5-021F4A9860A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40588823-FFA8-410E-8D51-D30B7C97986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Non-Collaborative Foreign Equity Arrangements</a:t>
            </a:r>
            <a:endParaRPr b="0" lang="en-US" sz="44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There are two ways to invest in a foreign country</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cquisition of existing facilit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eenfield Investment – Building new facilit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971D88B5-CFBB-4400-9DF3-D8CA156DE0A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Collaborate</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ollaborative Arrangements and International Objectiv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8" name="Picture 1" descr="FG_15_005.eps"/>
          <p:cNvPicPr/>
          <p:nvPr/>
        </p:nvPicPr>
        <p:blipFill>
          <a:blip r:embed="rId1"/>
          <a:stretch/>
        </p:blipFill>
        <p:spPr>
          <a:xfrm>
            <a:off x="609480" y="2133720"/>
            <a:ext cx="838224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16:14:31Z</dcterms:created>
  <dc:creator>Veronica</dc:creator>
  <dc:description/>
  <dc:language>en-US</dc:language>
  <cp:lastModifiedBy>Saju Valliara Jose</cp:lastModifiedBy>
  <dcterms:modified xsi:type="dcterms:W3CDTF">2016-03-21T06:17:29Z</dcterms:modified>
  <cp:revision>31</cp:revision>
  <dc:subject/>
  <dc:title>International Business Environments &amp; Operations</dc:title>
</cp:coreProperties>
</file>