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30EE-18B2-455C-9B3A-660426DCB8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DB10-88EE-44F6-AC1E-D489AB0BAD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 Globalization and Socie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A778-1EE2-4C86-A2AF-29FBCFCF95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ethical issues related to bribery and global warming, firms also face ethical issues in other parts of their business.  Some are industry-specific like the issues that arise in the pharmaceutical industry, others are not industry-specific like labor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harmaceutical industry, many firms use tiered pricing whereby they charge a market price for products sold in industrialized countries and a discounted price for products sold in developing countries.  Keep in mind though, that drug companies rely on revenue from existing products to fund their R&amp;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S allows poor countries to produce generic products for local consumption or import generic products if they themselves don</a:t>
            </a:r>
            <a:r>
              <a:rPr b="0" lang="ja-JP" sz="1200" spc="-1" strike="noStrike">
                <a:solidFill>
                  <a:srgbClr val="000000"/>
                </a:solidFill>
                <a:latin typeface="Arial"/>
              </a:rPr>
              <a:t>’</a:t>
            </a:r>
            <a:r>
              <a:rPr b="0" lang="en-US" sz="1200" spc="-1" strike="noStrike">
                <a:solidFill>
                  <a:srgbClr val="000000"/>
                </a:solidFill>
                <a:latin typeface="Arial"/>
              </a:rPr>
              <a:t>t have the capacity to produce generics.  Pharmaceutical companies worry that the generic products could eventually compromise their sales of real products in developed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issue for drug companies involves the high cost of developing drugs.  The cost of developing drugs is very high in the developed world, but significantly lower in developing countries like India.  India has emerged as a major manufacturer of generic drugs and is now moving into developing new drug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A3C9-8041-400D-9A00-60A08D05A8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r>
              <a:rPr b="0" lang="ja-JP" sz="1200" spc="-1" strike="noStrike">
                <a:solidFill>
                  <a:srgbClr val="000000"/>
                </a:solidFill>
                <a:latin typeface="Arial"/>
              </a:rPr>
              <a:t>’</a:t>
            </a:r>
            <a:r>
              <a:rPr b="0" lang="en-US" sz="1200" spc="-1" strike="noStrike">
                <a:solidFill>
                  <a:srgbClr val="000000"/>
                </a:solidFill>
                <a:latin typeface="Arial"/>
              </a:rPr>
              <a:t>s multinationals rely on global supply chains.  This reality adds another level of concern for them – namely the working conditions of foreign labor forces.  Companies doing business in other countries either through FDI or purchasing from independent suppliers deal with a host of issues including ensuring that fair wages are paid and working conditions are safe, meeting the ethical and legal challenges of child labor, and making sure that freedom of association is permit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65C1-AF23-4800-9DC3-8348B15F2A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rea that has received special attention is child labor.  The International Labor Organization or ILO estimates that some 250 million children work worldwide.  Of these, about 5 percent are involved in export indu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when thinking about child labor that some argue that in some cases, children work because their parents don</a:t>
            </a:r>
            <a:r>
              <a:rPr b="0" lang="ja-JP" sz="1200" spc="-1" strike="noStrike">
                <a:solidFill>
                  <a:srgbClr val="000000"/>
                </a:solidFill>
                <a:latin typeface="Arial"/>
              </a:rPr>
              <a:t>’</a:t>
            </a:r>
            <a:r>
              <a:rPr b="0" lang="en-US" sz="1200" spc="-1" strike="noStrike">
                <a:solidFill>
                  <a:srgbClr val="000000"/>
                </a:solidFill>
                <a:latin typeface="Arial"/>
              </a:rPr>
              <a:t>t earn enough to support their families.  Without the additional wages brought home by the child, the family would be worse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panies like IKEA have addressed this dilemma by helping families increase their earning power and establishing bridge schools for childr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4992-0B1D-4628-909A-6B87DBDB66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behind sustainability is to do what</a:t>
            </a:r>
            <a:r>
              <a:rPr b="0" lang="ja-JP" sz="1200" spc="-1" strike="noStrike">
                <a:solidFill>
                  <a:srgbClr val="000000"/>
                </a:solidFill>
                <a:latin typeface="Arial"/>
              </a:rPr>
              <a:t>’</a:t>
            </a:r>
            <a:r>
              <a:rPr b="0" lang="en-US" sz="1200" spc="-1" strike="noStrike">
                <a:solidFill>
                  <a:srgbClr val="000000"/>
                </a:solidFill>
                <a:latin typeface="Arial"/>
              </a:rPr>
              <a:t>s best for both people and the environment.  Today, it</a:t>
            </a:r>
            <a:r>
              <a:rPr b="0" lang="ja-JP" sz="1200" spc="-1" strike="noStrike">
                <a:solidFill>
                  <a:srgbClr val="000000"/>
                </a:solidFill>
                <a:latin typeface="Arial"/>
              </a:rPr>
              <a:t>’</a:t>
            </a:r>
            <a:r>
              <a:rPr b="0" lang="en-US" sz="1200" spc="-1" strike="noStrike">
                <a:solidFill>
                  <a:srgbClr val="000000"/>
                </a:solidFill>
                <a:latin typeface="Arial"/>
              </a:rPr>
              <a:t>s commonly recognized that sustainability can go hand in hand with good business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it has become an industry in its own right.  New companies have emerged that combine the idea of environmental responsibility with profitability to meet the needs of environmentally conscious consumer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2943-9992-4199-9A7A-2A4ED5F2C065}"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by Vijay Govindarajan and Anil Gupta indicates that many CEOs feel that developing a company </a:t>
            </a:r>
            <a:r>
              <a:rPr b="1" lang="en-US" sz="1200" spc="-1" strike="noStrike">
                <a:solidFill>
                  <a:srgbClr val="000000"/>
                </a:solidFill>
                <a:latin typeface="Arial"/>
              </a:rPr>
              <a:t>global mind-set </a:t>
            </a:r>
            <a:r>
              <a:rPr b="0" lang="en-US" sz="1200" spc="-1" strike="noStrike">
                <a:solidFill>
                  <a:srgbClr val="000000"/>
                </a:solidFill>
                <a:latin typeface="Arial"/>
              </a:rPr>
              <a:t> is a “prerequisite for global industry dominance.” Percy Barnevik, who served as the leader for the merger of Swedish Asea with Swiss Brown Boveri to create  the global engineering and manufacturing giant ABB (Asea Brown Boveri), aptly observed, “ Global managers have exceptionally open minds. They respect how countries do things, and they have the imagination to appreciate why they do them that way. But they are also incisive , they push the limits of the culture. Global managers don’t passively accept it when someone says, ‘ You can’t do that in Italy or Spain because of the unions,’ or ‘You can’t do that in Japan because of the Ministry of Finance.’ They sort through the debris of cultural excuses and find opportunities to innova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9A27-2DDC-4B8F-8FA9-2127C3CD7CD2}"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3995-0540-4FB3-8CE0-11B5C4A68785}"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80A5-5B4C-4FD2-8506-EF8058C1A0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companies care about ethical behavior?  Ethical behavior can be important for developing a competitive advantage and to avoid being perceived as irrespon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many nongovernmental organizations, or NGOs, actively encourage companies to comply with certain standards of ethical behavio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55EC-6AA4-4055-80F2-4BDCFC48E0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differ across countries and also between employees and companies.   According to the relativism perspective there are significant differences from country to country that can affect behavior.  In contrast, normativism supports the idea that there are universal standards of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suggest that managers should exhibit ordinary decency – principles of honesty and 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doing business abroad must decide whether and how to implement their own ethical principles.  Companies may face considerable pressure to either comply with local norms or to avoid doing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managers must choose between the lesser of two evils.  Keep in mind that social responsibility requires human judgment, but that such judgment is subjective and ambiguou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62C8-9FA1-4BAD-BB7D-FC6E977F76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e arguments against using the law as a starting point for ethical behavior, it is the starting point for many companies.  Moreover, as countries tackle similar ethical issues, laws will become more simi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B0B9-C550-4C03-BFF6-A8E2A34FF6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uption – which is defined by Transparency International to be the misuse of entrusted power for private gain -  involves multiple issues, one of which is the issue of bribery.  Bribery is the main form of corrupt behavior by multinational companies.  In fact, while it is impossible to assess the true value of bribery, it</a:t>
            </a:r>
            <a:r>
              <a:rPr b="0" lang="ja-JP" sz="1200" spc="-1" strike="noStrike">
                <a:solidFill>
                  <a:srgbClr val="000000"/>
                </a:solidFill>
                <a:latin typeface="Arial"/>
              </a:rPr>
              <a:t>’</a:t>
            </a:r>
            <a:r>
              <a:rPr b="0" lang="en-US" sz="1200" spc="-1" strike="noStrike">
                <a:solidFill>
                  <a:srgbClr val="000000"/>
                </a:solidFill>
                <a:latin typeface="Arial"/>
              </a:rPr>
              <a:t>s hu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1A15-B163-4533-BBEA-1EE2777018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 damage the environment both in the manufacturing process and also as a result of the products they 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 of companies that extract natural resources is especially complicated.  What happens when those resources are nonrenewable?  Well, some argue that there is no such thing as a nonrenewable resource because as supplies drop, prices will rise and substitutes will emerge to protect the resource that is less availab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60C2D-074F-4C87-B697-9C803E8C8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6DFBD-C6D3-4526-AD32-08457F651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499DC-4F96-40D1-A5EC-2F5D8E8C1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90306-C404-4837-9875-0CCC71143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62B91-1399-4591-9A56-2CD259F31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6CD80-E672-47BD-BA0B-C770AFCC4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0A42F-2BBB-434C-BA8C-A0AAD60E2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8361B-2714-4DE9-B098-2D07D99D7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98DE4-6B3B-441C-9E99-5C3D2635E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DAE43-92AD-4780-8C02-1B1B4978E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8F433-1D3A-4C71-B095-816A96EEA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67448-7EEB-4A55-B4BC-563D0D9C1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FA603-7CBB-41BB-8192-9A8C5551D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FFF00-3EDD-4090-8AD5-29E1E2D1C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C7EDF-C854-43F6-985C-1B98615FC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6DD77-607E-45D6-9583-C56A26C9C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B3F09-F1CD-4F97-8AAB-379AFD250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A9000-F940-4328-88E0-8A993C9E1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0508B-9474-4C66-AAC5-E149CE901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F63E4-A339-4F04-8FA6-3A418B6D1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8FE72-44D4-402C-AF95-5284CFEF1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5010F-5E73-4C7D-9E9D-3C8037F7E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A114C-65E7-4817-946E-CB0530174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0597D-B8FD-45A0-A315-5D7D58F8E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fld id="{5B7B23D8-928C-4505-91B4-72AD64AFD4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fld id="{28A9A8D0-7966-41A3-869D-DA958B6760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382D011C-9E54-4613-BB2A-E851DC0516E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1</a:t>
            </a:r>
            <a:endParaRPr b="0" lang="en-US" sz="61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Ethics and CSR</a:t>
            </a:r>
            <a:endParaRPr b="0" lang="en-US" sz="4400" spc="-1" strike="noStrike">
              <a:solidFill>
                <a:srgbClr val="6666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Sustainability</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A738C40E-C773-4CE3-9937-144F2F88B5E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lemmas in the Pharmaceutical Industry</a:t>
            </a:r>
            <a:endParaRPr b="0" lang="en-US" sz="4400" spc="-1" strike="noStrike">
              <a:solidFill>
                <a:srgbClr val="6f6e4a"/>
              </a:solidFill>
              <a:latin typeface="Georgi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iered pricing and other price-related issu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verse engineering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TO Agreement on Trade-Related Aspects of Intellectual Property Rights (TRIP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eneric drug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amp;D and the Bottom Lin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dia</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3CD75B58-5A46-4621-9019-801D8332F5D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mensions of </a:t>
            </a:r>
            <a:br>
              <a:rPr sz="4400"/>
            </a:br>
            <a:r>
              <a:rPr b="0" lang="en-US" sz="4400" spc="-1" strike="noStrike">
                <a:solidFill>
                  <a:srgbClr val="6f6e4a"/>
                </a:solidFill>
                <a:latin typeface="Georgia"/>
              </a:rPr>
              <a:t>Labor Conditions</a:t>
            </a:r>
            <a:endParaRPr b="0" lang="en-US" sz="4400" spc="-1" strike="noStrike">
              <a:solidFill>
                <a:srgbClr val="6f6e4a"/>
              </a:solidFill>
              <a:latin typeface="Georgi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abor issues includ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ag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hild labo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orking condit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orking hou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eedom of association</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C9008559-8359-43E3-A0E4-2AF78E3F3FA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mensions of </a:t>
            </a:r>
            <a:br>
              <a:rPr sz="4400"/>
            </a:br>
            <a:r>
              <a:rPr b="0" lang="en-US" sz="4400" spc="-1" strike="noStrike">
                <a:solidFill>
                  <a:srgbClr val="6f6e4a"/>
                </a:solidFill>
                <a:latin typeface="Georgia"/>
              </a:rPr>
              <a:t>Labor Conditions</a:t>
            </a:r>
            <a:endParaRPr b="0" lang="en-US" sz="4400" spc="-1" strike="noStrike">
              <a:solidFill>
                <a:srgbClr val="6f6e4a"/>
              </a:solidFill>
              <a:latin typeface="Georgi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hild labor</a:t>
            </a:r>
            <a:r>
              <a:rPr b="0" lang="en-US" sz="2800" spc="-1" strike="noStrike">
                <a:solidFill>
                  <a:srgbClr val="666699"/>
                </a:solidFill>
                <a:latin typeface="Verdana"/>
              </a:rPr>
              <a:t> – ILO estimates 250 million children aged 5–17 years work</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 companies avoid operating in countries where child labor is comm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r establish responsible policies in those countries - IKEA</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 companies refuse to hire individuals who want to work long hour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cerned about exploitation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F94D8A2B-D8E6-4D09-A83C-87B7029C489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at is Sustainability and Corporate Social Responsibility ?</a:t>
            </a:r>
            <a:endParaRPr b="0" lang="en-US" sz="4800" spc="-1" strike="noStrike">
              <a:solidFill>
                <a:srgbClr val="6f6e4a"/>
              </a:solidFill>
              <a:latin typeface="Georgi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ustainability </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eting the needs of the present without compromising the ability of future generations to meet their own need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CSR</a:t>
            </a:r>
            <a:endParaRPr b="0" lang="en-US" sz="2800" spc="-1" strike="noStrike">
              <a:solidFill>
                <a:srgbClr val="66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SR is defined as “the voluntary activities engaged in by a company and its employees that contribute to operating in an economically, socially, and environmentally responsible manner in order to benefit all stakeholder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f6e4a"/>
                </a:solidFill>
                <a:latin typeface="Georgia"/>
              </a:rPr>
              <a:t>Challenges of a global marketer in Pursuing  CSR </a:t>
            </a:r>
            <a:endParaRPr b="0" lang="en-US" sz="4300" spc="-1" strike="noStrike">
              <a:solidFill>
                <a:srgbClr val="6f6e4a"/>
              </a:solidFill>
              <a:latin typeface="Georgia"/>
            </a:endParaRPr>
          </a:p>
        </p:txBody>
      </p:sp>
      <p:sp>
        <p:nvSpPr>
          <p:cNvPr id="144" name="TextBox 3"/>
          <p:cNvSpPr/>
          <p:nvPr/>
        </p:nvSpPr>
        <p:spPr>
          <a:xfrm>
            <a:off x="1295280" y="2490840"/>
            <a:ext cx="61722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Balancing profit motives and social motive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Adapting CSR strategies to different countrie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Assessing the rewards of CSR</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Conflict between different stakeholder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Finding a good  NGO  as a partner</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20-</a:t>
            </a:r>
            <a:fld id="{3B9DCB14-2340-4D93-BE54-53EB1112B078}" type="slidenum">
              <a:rPr b="0" lang="en-US" sz="1000" spc="-1" strike="noStrike">
                <a:solidFill>
                  <a:srgbClr val="898989"/>
                </a:solidFill>
                <a:latin typeface="Calibri"/>
              </a:rPr>
              <a:t>&lt;number&gt;</a:t>
            </a:fld>
            <a:endParaRPr b="0" lang="en-US" sz="1000" spc="-1" strike="noStrike">
              <a:solidFill>
                <a:srgbClr val="000000"/>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Global Mindset</a:t>
            </a:r>
            <a:endParaRPr b="0" lang="en-US" sz="4800" spc="-1" strike="noStrike">
              <a:solidFill>
                <a:srgbClr val="6f6e4a"/>
              </a:solidFill>
              <a:latin typeface="Georgi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xpatriat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person living outside citizenship countr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lobal Mind-se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mind-set that combines an openness to and an awareness of diversity across markets and cultures with a propensity and ability to synthesize across this diversity</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20-</a:t>
            </a:r>
            <a:fld id="{DE5349B8-59B9-4EF6-B3B8-7CC0972FDFD5}" type="slidenum">
              <a:rPr b="0" lang="en-US" sz="1000" spc="-1" strike="noStrike">
                <a:solidFill>
                  <a:srgbClr val="898989"/>
                </a:solidFill>
                <a:latin typeface="Calibri"/>
              </a:rPr>
              <a:t>&lt;number&gt;</a:t>
            </a:fld>
            <a:endParaRPr b="0" lang="en-US" sz="1000" spc="-1" strike="noStrike">
              <a:solidFill>
                <a:srgbClr val="000000"/>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ernational HRM Approaches</a:t>
            </a:r>
            <a:endParaRPr b="0" lang="en-US" sz="4800" spc="-1" strike="noStrike">
              <a:solidFill>
                <a:srgbClr val="6f6e4a"/>
              </a:solidFill>
              <a:latin typeface="Georgia"/>
            </a:endParaRPr>
          </a:p>
        </p:txBody>
      </p:sp>
      <p:sp>
        <p:nvSpPr>
          <p:cNvPr id="150" name="PlaceHolder 2"/>
          <p:cNvSpPr>
            <a:spLocks noGrp="1"/>
          </p:cNvSpPr>
          <p:nvPr>
            <p:ph/>
          </p:nvPr>
        </p:nvSpPr>
        <p:spPr>
          <a:xfrm>
            <a:off x="761760" y="1599840"/>
            <a:ext cx="7848360" cy="480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thnocentric</a:t>
            </a:r>
            <a:r>
              <a:rPr b="1"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promoting employees on the basis of parent company’s home country frame of reference</a:t>
            </a:r>
            <a:endParaRPr b="0" lang="en-US" sz="2400" spc="-1" strike="noStrike">
              <a:solidFill>
                <a:srgbClr val="666699"/>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olycentric</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promoting employees on the basis of specific local context of the subsidiary </a:t>
            </a:r>
            <a:endParaRPr b="0" lang="en-US" sz="2400" spc="-1" strike="noStrike">
              <a:solidFill>
                <a:srgbClr val="666699"/>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7" dur="500"/>
                                        <p:tgtEl>
                                          <p:spTgt spid="1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2" dur="500"/>
                                        <p:tgtEl>
                                          <p:spTgt spid="15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7" dur="500"/>
                                        <p:tgtEl>
                                          <p:spTgt spid="150">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22"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20-</a:t>
            </a:r>
            <a:fld id="{D5994851-E777-4ACC-A16B-1A10A3BADB4A}" type="slidenum">
              <a:rPr b="0" lang="en-US" sz="1000" spc="-1" strike="noStrike">
                <a:solidFill>
                  <a:srgbClr val="898989"/>
                </a:solidFill>
                <a:latin typeface="Calibri"/>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ernational HRM Approaches</a:t>
            </a:r>
            <a:endParaRPr b="0" lang="en-US" sz="4800" spc="-1" strike="noStrike">
              <a:solidFill>
                <a:srgbClr val="6f6e4a"/>
              </a:solidFill>
              <a:latin typeface="Georgia"/>
            </a:endParaRPr>
          </a:p>
        </p:txBody>
      </p:sp>
      <p:sp>
        <p:nvSpPr>
          <p:cNvPr id="153" name="PlaceHolder 2"/>
          <p:cNvSpPr>
            <a:spLocks noGrp="1"/>
          </p:cNvSpPr>
          <p:nvPr>
            <p:ph/>
          </p:nvPr>
        </p:nvSpPr>
        <p:spPr>
          <a:xfrm>
            <a:off x="761760" y="1599840"/>
            <a:ext cx="7924680" cy="480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giocentric</a:t>
            </a:r>
            <a:endParaRPr b="0" lang="en-US" sz="28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promoting employees on the basis of the specific regional context of the subsidiary</a:t>
            </a:r>
            <a:r>
              <a:rPr b="0" lang="en-US" sz="2000" spc="-1" strike="noStrike">
                <a:solidFill>
                  <a:srgbClr val="666699"/>
                </a:solidFill>
                <a:latin typeface="Verdana"/>
              </a:rPr>
              <a:t> </a:t>
            </a:r>
            <a:endParaRPr b="0" lang="en-US" sz="2000" spc="-1" strike="noStrike">
              <a:solidFill>
                <a:srgbClr val="666699"/>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eocentric</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promoting employees on the basis of ability and experience without considering race or citizenship</a:t>
            </a:r>
            <a:endParaRPr b="0" lang="en-US" sz="2400" spc="-1" strike="noStrike">
              <a:solidFill>
                <a:srgbClr val="666699"/>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ofit of Corporations 2011</a:t>
            </a:r>
            <a:endParaRPr b="0" lang="en-US" sz="4800" spc="-1" strike="noStrike">
              <a:solidFill>
                <a:srgbClr val="6f6e4a"/>
              </a:solidFill>
              <a:latin typeface="Georgia"/>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ike 2011-  2.33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pple -7.3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amsung- 4.7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KEA-3.85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ace book -1.5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MW-6.3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f6e4a"/>
                </a:solidFill>
                <a:latin typeface="Georgia"/>
              </a:rPr>
              <a:t>Who should they share the profits with?</a:t>
            </a:r>
            <a:endParaRPr b="0" lang="en-US" sz="4300" spc="-1" strike="noStrike">
              <a:solidFill>
                <a:srgbClr val="6f6e4a"/>
              </a:solidFill>
              <a:latin typeface="Georgia"/>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hare holder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mploye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upplier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istributor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usiness communit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ocal communit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on Governmental organis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thics – Doing the right thing</a:t>
            </a:r>
            <a:endParaRPr b="0" lang="en-US" sz="4800" spc="-1" strike="noStrike">
              <a:solidFill>
                <a:srgbClr val="6f6e4a"/>
              </a:solidFill>
              <a:latin typeface="Georgia"/>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t of values which is right</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l companies should have a code of ethics which summarizes core ideologies and corporate valu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cially responsible firm, the employees  conduct business in an ethical manner</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o drives ethics in an organis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97FBD7EE-FD9F-40ED-9188-6E61C548701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Do Companies Care? </a:t>
            </a:r>
            <a:endParaRPr b="0" lang="en-US" sz="4800" spc="-1" strike="noStrike">
              <a:solidFill>
                <a:srgbClr val="6f6e4a"/>
              </a:solidFill>
              <a:latin typeface="Georgia"/>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thical behavior can help a compan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velop a competitive advantage</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void being perceived as irresponsibl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8B2E0521-71BD-4CA2-9FB5-25EDD9A004A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6e4a"/>
                </a:solidFill>
                <a:latin typeface="Georgia"/>
              </a:rPr>
              <a:t>The Cultural and Legal Foundations of Ethical Behavior Relativism versus Normativism </a:t>
            </a:r>
            <a:endParaRPr b="0" lang="en-US" sz="2400" spc="-1" strike="noStrike">
              <a:solidFill>
                <a:srgbClr val="6f6e4a"/>
              </a:solidFill>
              <a:latin typeface="Georgia"/>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Verdana"/>
              </a:rPr>
              <a:t>Relativism</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thical truths depend on the groups holding them</a:t>
            </a:r>
            <a:endParaRPr b="0" lang="en-US" sz="2800" spc="-1" strike="noStrike">
              <a:solidFill>
                <a:srgbClr val="666699"/>
              </a:solidFill>
              <a:latin typeface="Verdana"/>
            </a:endParaRPr>
          </a:p>
          <a:p>
            <a:pPr marL="343080" indent="-34308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Verdana"/>
              </a:rPr>
              <a:t>Normativism </a:t>
            </a:r>
            <a:endParaRPr b="0" lang="en-US" sz="32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re are universal standards of behavior that all cultures should follow</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44683E72-3538-419A-8EB1-B2E255448F0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thics and Corporate Bribery</a:t>
            </a:r>
            <a:endParaRPr b="0" lang="en-US" sz="4800" spc="-1" strike="noStrike">
              <a:solidFill>
                <a:srgbClr val="6f6e4a"/>
              </a:solidFill>
              <a:latin typeface="Georgia"/>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gardless of the reasons for not using the law as a starting point for ethical behavior, it remains a good starting point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untries looking for solutions to common problems take similar legal step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sider</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ctivities that affect the well-being of peopl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ctivities that affect the environment</a:t>
            </a:r>
            <a:endParaRPr b="0" lang="en-US" sz="2400" spc="-1" strike="noStrike">
              <a:solidFill>
                <a:srgbClr val="66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3374582A-964E-46EC-87A7-18A052A171D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rruption and Bribery</a:t>
            </a:r>
            <a:endParaRPr b="0" lang="en-US" sz="4800" spc="-1" strike="noStrike">
              <a:solidFill>
                <a:srgbClr val="6f6e4a"/>
              </a:solidFill>
              <a:latin typeface="Georgia"/>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rruption</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misuse of entrusted power for private gain</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ribe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ayments or promises to pay cash or anything of valu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ccurs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obtain government contracts </a:t>
            </a:r>
            <a:endParaRPr b="0" lang="en-US" sz="2400" spc="-1" strike="noStrike">
              <a:solidFill>
                <a:srgbClr val="666699"/>
              </a:solidFill>
              <a:latin typeface="Verdana"/>
            </a:endParaRPr>
          </a:p>
          <a:p>
            <a:pPr lvl="2" marL="1143000" indent="-228600">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get public officials to do what they should be doing anyway</a:t>
            </a:r>
            <a:r>
              <a:rPr b="0" lang="en-US" sz="2000" spc="-1" strike="noStrike">
                <a:solidFill>
                  <a:srgbClr val="666699"/>
                </a:solidFill>
                <a:latin typeface="Verdana"/>
              </a:rPr>
              <a:t> </a:t>
            </a:r>
            <a:endParaRPr b="0" lang="en-US" sz="20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EB7942A5-1B83-4885-A044-5427A9A2970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thics and the Environment</a:t>
            </a:r>
            <a:endParaRPr b="0" lang="en-US" sz="4800" spc="-1" strike="noStrike">
              <a:solidFill>
                <a:srgbClr val="6f6e4a"/>
              </a:solidFill>
              <a:latin typeface="Georgia"/>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compromise the environmen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tamination of air, soil, or water during manufacturing</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ing products that emit fossil-fuel contaminants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ffect of natural resource extrac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newable versus non-renewable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02:29:20Z</dcterms:created>
  <dc:creator>Veronica</dc:creator>
  <dc:description/>
  <dc:language>en-US</dc:language>
  <cp:lastModifiedBy>Saju Valliara Jose</cp:lastModifiedBy>
  <dcterms:modified xsi:type="dcterms:W3CDTF">2020-06-08T02:55:53Z</dcterms:modified>
  <cp:revision>37</cp:revision>
  <dc:subject/>
  <dc:title>International Business Environments &amp; Operations</dc:title>
</cp:coreProperties>
</file>