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move the slide</a:t>
            </a:r>
            <a:endParaRPr b="0" lang="en-US" sz="4800" spc="-1" strike="noStrike">
              <a:solidFill>
                <a:srgbClr val="6f6e4a"/>
              </a:solidFill>
              <a:latin typeface="Georgi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3CAC-C786-41FD-B585-1BCBE33E2C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453A6-F275-4081-83E3-FEB76C88CC8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7: Marketing Globall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C9505-DC30-407F-B2FE-5E0F8F3F7C0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can vary significantly depending on the company, the product, and the country of operation.  Push promotion uses direct selling while pull relies on mass media.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BA213-71EE-4EC1-9794-6E858107676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face numerous challenges because of diverse national environments.  Very often, companies find that they have to adapt their promotion to local market conditions.  For example, companies may find that promotion in rural areas requires specially designed strategies.  Similarly, government regulations can pose problems as can differences in income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even if a standardized approach is possible it may not always be beneficial.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6D26-17DA-43BB-8293-194D668F18C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s give products instant recognitio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A348-6194-4C50-8193-9F6C5A1EC84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1B45-20D5-470A-8D91-C2E71C15FFD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same brand worldwide helps a firm develop a global image, but may not always be possible because of language differences or because the firm has acquired a locally branded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of-origin can also be a factor in br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lobal brand can help a company overcome negative country-of-origin images, but keep in mind that images can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at the advantages of a well-known brand can be negated if the brand becomes a generic term.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5AB0-C277-49F5-BD32-D4E6F1E6EBB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comes to distribution, international marketing managers not only have to figure out how to get the product to a particular country, they also need to develop a strategy to get it to the end us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7A861-FE36-4AF1-A2DE-AFE7FCD0EA2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other elements in the marketing mix, managers need to decide whether distribution can be standardized or whether it needs to be adapted to fit the needs of each market.  In general, distribution is the most difficult element to standardi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the cost and time involved in establishing a distribution system can make it difficult to change even when the situation change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1921D-577D-4268-A260-D743BB72E6B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must decide whether to handle distribution in-house or outsource it.  If a firm decides to outsource, it must ensure that it uses a qualified distributor.  In addition, reliable after-sales service needs to be available especially for products using new technology.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0B38-BC51-4146-AEAE-E189E92DDF2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looking for distributors may find that many are locked into exclusive arrangements.  In some cases, it may be necessary to offer distributors incentives or offer proven products as bait for taking on new ones.  Companies may even find that they have to convince distributors of the viability of the company itself.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D1959-61FE-4FB3-89BB-C692289BA0A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ion costs can vary between countries because of infrastructure conditions, the number of levels in the distribution system, retail inefficiencies, size and operating hour restrictions, and inventory stock-out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A119B-F51D-47EC-A847-D3001EA3A4E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marketing is like domestic marketing in that a firm needs a desirable product or service, must tell people about it, price it at an acceptable level, and offer it in the right location.  However, because international marketing managers operate in an unfamiliar environment each of these activities becomes more complex.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2406B-57FA-4223-A71E-80ACE87E733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ive common marketing orient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ion orientation assumes that customers want lower prices or higher quality.  This approach is generally only used for commodity sales, passive exports, and foreign ni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les orientation assumes that foreign customers are similar to domestic customers, so the company simply sells abroad what it can sell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orientation, in contrast, holds the country as a constant and varies the product and marketing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c marketing orientation adapts product strategy by de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social marketing orientation considers decisions from the perspective of all stakeholders.  Firms using this approach try to act in a socially responsible way.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5EAB-EA04-4D38-81E6-5ECB292E4E7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have to segment markets and identify specific segments to target.  Three basic ways to do this is are by country, by global segment, and using multiple criteri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2F58F-2F71-4064-A616-BAF9453B099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prefer not to alter their product for foreign markets because of the costs involved in doing so.  However, in many cases different legal, cultural, and economic conditions in the target market make product alterations a necess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duct changes are necessary, firms can still try to find ways to control alteration costs by changing only what needs to be changed and keeping everything else the sam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12B3-DEA3-49DD-AC0B-122D5B422DF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deciding whether a product needs to be adapted for a target market, firms also need to consider the extent and mix of the product line that will be sold in foreign markets.  This requires sales and cost considerations as well as product life cycle considera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DEB6-45DC-426A-BB35-0E05F60C1D1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in international markets is more complex than domestic pricing.  Governments, for example, may establish pricing guidelines or even forbid certain pricing strategies.  Similarly, market diversity can encourage different pricing across marke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F8CD7-3C53-4270-A7DB-7C634950A94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can use different pricing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kimming strategy involves </a:t>
            </a:r>
            <a:r>
              <a:rPr b="0" lang="en-US" sz="1200" spc="-1" strike="noStrike">
                <a:solidFill>
                  <a:srgbClr val="000000"/>
                </a:solidFill>
                <a:latin typeface="Palatino-Roman"/>
              </a:rPr>
              <a:t>charging a high price for a new product by aiming first at consumers willing to pay the price, and then progressively lowering the pr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Firms using a </a:t>
            </a:r>
            <a:r>
              <a:rPr b="0" lang="en-US" sz="1200" spc="-1" strike="noStrike">
                <a:solidFill>
                  <a:srgbClr val="000000"/>
                </a:solidFill>
                <a:latin typeface="Palatino-Bold"/>
              </a:rPr>
              <a:t>penetration strategy in</a:t>
            </a:r>
            <a:r>
              <a:rPr b="0" lang="en-US" sz="1200" spc="-1" strike="noStrike">
                <a:solidFill>
                  <a:srgbClr val="000000"/>
                </a:solidFill>
                <a:latin typeface="Palatino-Roman"/>
              </a:rPr>
              <a:t>troduce a product at a low price to induce a maximum number of consumers to try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Palatino-Roman"/>
              </a:rPr>
              <a:t> </a:t>
            </a:r>
            <a:r>
              <a:rPr b="0" lang="en-US" sz="1200" spc="-1" strike="noStrike">
                <a:solidFill>
                  <a:srgbClr val="000000"/>
                </a:solidFill>
                <a:latin typeface="Palatino-Bold"/>
              </a:rPr>
              <a:t>cost-plus strategy involves </a:t>
            </a:r>
            <a:r>
              <a:rPr b="0" lang="en-US" sz="1200" spc="-1" strike="noStrike">
                <a:solidFill>
                  <a:srgbClr val="000000"/>
                </a:solidFill>
                <a:latin typeface="Palatino-Roman"/>
              </a:rPr>
              <a:t>pricing at a desired margin over cost.  </a:t>
            </a:r>
            <a:r>
              <a:rPr b="0" lang="en-US" sz="1200" spc="-1" strike="noStrike">
                <a:solidFill>
                  <a:srgbClr val="000000"/>
                </a:solidFill>
                <a:latin typeface="Arial"/>
              </a:rPr>
              <a:t>Keep in mind that export price escalation may occur.  This typically happens for two reas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Medium"/>
              </a:rPr>
              <a:t>First, c</a:t>
            </a:r>
            <a:r>
              <a:rPr b="0" lang="en-US" sz="1200" spc="-1" strike="noStrike">
                <a:solidFill>
                  <a:srgbClr val="000000"/>
                </a:solidFill>
                <a:latin typeface="Palatino-Roman"/>
              </a:rPr>
              <a:t>hannels of distribution usually include additional intermediaries because exporters need to contract with organizations that know how to sell in foreign markets.  Second, tariffs and transport are additional costs that may be passed on to consum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Finally, remember that pricing in highly volatile currencies can be extremely troubleso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9D66-C599-4CC7-85B4-5229240A236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easy access to information makes it much harder for firms to price on a country-to-country basis.  Grey markets typically emerge when differences exi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B7394-D7A0-486E-B1CC-9AF0B6628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AEA7C-D0B2-4308-BF69-2263F65B1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EE715-3152-433E-A930-D160EF7B0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A6DC9-B5A7-4137-A7C0-023DA49F1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87D50C-E743-47CC-94C8-F8CE5AD4D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EBA02-DB5F-4B77-8B68-DE16DE3C0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7B800-6A0C-40FC-9E10-7421D1CCC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77093-36BB-41B5-99F1-11343B579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C4925-5D0A-44AF-838E-D2B98E348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CFAFB-DEA1-4E01-ADB6-89A2B731C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2E6C8-5B15-4ED3-B379-7E13E7A96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6C612-023C-435F-92D7-E82485D9A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8C0DA-52D7-480D-A126-8836E1565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62B5C-95A4-4D9C-AF8C-59504BB62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2F5FB-B41E-4A2E-8550-2CB66A283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084B8A-9794-4C43-B6B7-6470763AC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D165ED-0369-4CFE-A173-76DEA14428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0F7C8-9520-4C52-8793-615135A5D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14B5F-95A1-42E5-BF79-838DE1C43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DA737-A2A9-4A6A-B642-1CC14D725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F3E9B-3747-40AF-8253-59BC4C6EC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7F0D5-DAE1-4109-AE44-BE268D23E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7569C-E0A0-4E7D-8ABC-3029590A8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49C79-7F7B-4228-81F6-A8E595432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2" name="PlaceHolder 3"/>
          <p:cNvSpPr>
            <a:spLocks noGrp="1"/>
          </p:cNvSpPr>
          <p:nvPr>
            <p:ph type="dt" idx="1"/>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5 Pearson Education, Inc. </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fld id="{C265BFED-24BB-4CB4-8357-7DEC7B59285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51" name="PlaceHolder 3"/>
          <p:cNvSpPr>
            <a:spLocks noGrp="1"/>
          </p:cNvSpPr>
          <p:nvPr>
            <p:ph type="dt" idx="4"/>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5 Pearson Education, Inc. </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fld id="{28C1A6BB-140E-4E24-A7F7-2A654CD083E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98"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CA2FF26D-CC92-4BC2-941E-1906675A690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9"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Chapter 17</a:t>
            </a:r>
            <a:endParaRPr b="0" lang="en-US" sz="6100" spc="-1" strike="noStrike">
              <a:solidFill>
                <a:srgbClr val="6f6e4a"/>
              </a:solidFill>
              <a:latin typeface="Georgia"/>
            </a:endParaRPr>
          </a:p>
        </p:txBody>
      </p:sp>
      <p:sp>
        <p:nvSpPr>
          <p:cNvPr id="100"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Marketing Globally</a:t>
            </a:r>
            <a:endParaRPr b="0" lang="en-US" sz="4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3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6AAC4E7F-B83D-467B-B7C2-7ACCE593497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romotion Strategies</a:t>
            </a:r>
            <a:endParaRPr b="0" lang="en-US" sz="4800" spc="-1" strike="noStrike">
              <a:solidFill>
                <a:srgbClr val="6f6e4a"/>
              </a:solidFill>
              <a:latin typeface="Georgi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Promotion</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presentation of messages intended to help sell a product or service</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ush-pull mix</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Push</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uses direct selling techniqu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Pull</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lies on mass media (Nigeria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3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431CEDE3-7A03-4026-8123-09FDFB5BFCB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romotion Strategies</a:t>
            </a:r>
            <a:endParaRPr b="0" lang="en-US" sz="4800" spc="-1" strike="noStrike">
              <a:solidFill>
                <a:srgbClr val="6f6e4a"/>
              </a:solidFill>
              <a:latin typeface="Georgi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dvantages of standardized advertising</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ower cos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etter quality at local level</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mon global imag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apid entry into multiple countrie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However, firms could have problems with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ransla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egaliti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rket need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4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5F3DECD9-7C2C-483A-9DF8-EBC543E0E38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Branding Strategies</a:t>
            </a:r>
            <a:endParaRPr b="0" lang="en-US" sz="4800" spc="-1" strike="noStrike">
              <a:solidFill>
                <a:srgbClr val="6f6e4a"/>
              </a:solidFill>
              <a:latin typeface="Georgia"/>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Brand</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n identifying mark for a product or service</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fld id="{65100EAF-D9FD-4FE3-BB9B-F84B7F405D0E}"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Global Products and Brands</a:t>
            </a:r>
            <a:endParaRPr b="0" lang="en-US" sz="4800" spc="-1" strike="noStrike">
              <a:solidFill>
                <a:srgbClr val="6f6e4a"/>
              </a:solidFill>
              <a:latin typeface="Georgia"/>
            </a:endParaRPr>
          </a:p>
        </p:txBody>
      </p:sp>
      <p:sp>
        <p:nvSpPr>
          <p:cNvPr id="147" name="PlaceHolder 2"/>
          <p:cNvSpPr>
            <a:spLocks noGrp="1"/>
          </p:cNvSpPr>
          <p:nvPr>
            <p:ph/>
          </p:nvPr>
        </p:nvSpPr>
        <p:spPr>
          <a:xfrm>
            <a:off x="609480" y="1523880"/>
            <a:ext cx="7772400" cy="32004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lobal products meet the wants and needs of a global market and are offered in all world region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99"/>
                </a:solidFill>
                <a:uFillTx/>
                <a:latin typeface="Verdana"/>
                <a:hlinkClick r:id="rId1" action="ppaction://hlinksldjump"/>
              </a:rPr>
              <a:t>Global brands have the same name and similar image and positioning throughout the world</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pic>
        <p:nvPicPr>
          <p:cNvPr id="148" name="Picture 4" descr="C:\Documents and Settings\Jill Solomon\My Documents\My Pictures\K &amp; G 6e\motorcycle vector.jpg"/>
          <p:cNvPicPr/>
          <p:nvPr/>
        </p:nvPicPr>
        <p:blipFill>
          <a:blip r:embed="rId2"/>
          <a:stretch/>
        </p:blipFill>
        <p:spPr>
          <a:xfrm>
            <a:off x="1066680" y="4648320"/>
            <a:ext cx="3353040" cy="1971720"/>
          </a:xfrm>
          <a:prstGeom prst="rect">
            <a:avLst/>
          </a:prstGeom>
          <a:ln w="0">
            <a:noFill/>
          </a:ln>
        </p:spPr>
      </p:pic>
      <p:sp>
        <p:nvSpPr>
          <p:cNvPr id="149" name="Text Box 5"/>
          <p:cNvSpPr/>
          <p:nvPr/>
        </p:nvSpPr>
        <p:spPr>
          <a:xfrm>
            <a:off x="4724280" y="5257800"/>
            <a:ext cx="3657600" cy="703800"/>
          </a:xfrm>
          <a:prstGeom prst="rect">
            <a:avLst/>
          </a:prstGeom>
          <a:solidFill>
            <a:srgbClr val="f3d0c1"/>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arley Davidson has dealers in over 60 countri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5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4EDB6B6C-D441-48D4-AA31-C879019952E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Branding Strategies</a:t>
            </a:r>
            <a:endParaRPr b="0" lang="en-US" sz="4800" spc="-1" strike="noStrike">
              <a:solidFill>
                <a:srgbClr val="6f6e4a"/>
              </a:solidFill>
              <a:latin typeface="Georgia"/>
            </a:endParaRPr>
          </a:p>
        </p:txBody>
      </p:sp>
      <p:sp>
        <p:nvSpPr>
          <p:cNvPr id="1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dvantages of a worldwide brand</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lobal imag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lobal player identification</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oblems with global brand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anguag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rand acquisi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untry-of-origi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eneric and near-generic names</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5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0F036326-F1CF-48A6-B37C-15E3862400F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Distribution Strategies</a:t>
            </a:r>
            <a:endParaRPr b="0" lang="en-US" sz="4800" spc="-1" strike="noStrike">
              <a:solidFill>
                <a:srgbClr val="6f6e4a"/>
              </a:solidFill>
              <a:latin typeface="Georgia"/>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Distribution</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course – physical path or legal title – that goods take between production and consumption</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F88C3467-4FDD-4F42-9A6D-D6B6F9CFC55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Distribution Strategies</a:t>
            </a:r>
            <a:endParaRPr b="0" lang="en-US" sz="4800" spc="-1" strike="noStrike">
              <a:solidFill>
                <a:srgbClr val="6f6e4a"/>
              </a:solidFill>
              <a:latin typeface="Georgia"/>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Deciding whether to standardize</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Distribution can vary substantially among countri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Distribution can be difficult to change</a:t>
            </a:r>
            <a:r>
              <a:rPr b="0" lang="en-US" sz="2400" spc="-1" strike="noStrike">
                <a:solidFill>
                  <a:srgbClr val="666699"/>
                </a:solidFill>
                <a:latin typeface="Verdana"/>
              </a:rPr>
              <a:t>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6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E61714E6-BCC2-4F1C-B6BF-16DB3FDB64F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Distribution Strategies</a:t>
            </a:r>
            <a:endParaRPr b="0" lang="en-US" sz="4800" spc="-1" strike="noStrike">
              <a:solidFill>
                <a:srgbClr val="6f6e4a"/>
              </a:solidFill>
              <a:latin typeface="Georgia"/>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en choosing distributors and channels firms must consider </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ether internal handling is feasible</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ich distributors are qualified</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reliability of after-sales service</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6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95BE67F2-17BB-4791-B0E0-2D15FC695A2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Distribution Strategies</a:t>
            </a:r>
            <a:endParaRPr b="0" lang="en-US" sz="4800" spc="-1" strike="noStrike">
              <a:solidFill>
                <a:srgbClr val="6f6e4a"/>
              </a:solidFill>
              <a:latin typeface="Georgia"/>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Distributors choose which products to handl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get a distributor to work for them, companies may have to</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ive incentive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use successful products as bait for new one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nvince distributors that their product and company are viable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7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A3AB65D6-B050-4880-AB4F-FA5C2A0D320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Distribution Strategies</a:t>
            </a:r>
            <a:endParaRPr b="0" lang="en-US" sz="4800" spc="-1" strike="noStrike">
              <a:solidFill>
                <a:srgbClr val="6f6e4a"/>
              </a:solidFill>
              <a:latin typeface="Georgia"/>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actors that can contribute to distribution cost differences among countries include</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frastructure condition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number of levels in the distribution system</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tail inefficiencie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ze and operating hour restriction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ventory stock-outs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0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91D10F9E-D3A4-4D73-A760-7161CFE5F0D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rketing principles in foreign markets are similar to those in domestic market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duc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ic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mo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lace</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However, some or all elements may need to be adapted to better fit local markets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EF0CFE04-D089-4E71-95EB-E29F9C01810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arketing Strategies</a:t>
            </a:r>
            <a:endParaRPr b="0" lang="en-US" sz="4800" spc="-1" strike="noStrike">
              <a:solidFill>
                <a:srgbClr val="6f6e4a"/>
              </a:solidFill>
              <a:latin typeface="Georgia"/>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rketing strategy depends on marketing orientation</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duc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al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ustomer</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trategic marketing</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ocial marketing</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EBDD5CA6-AF0F-4691-BDFA-2213353F002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arketing Strategies</a:t>
            </a:r>
            <a:endParaRPr b="0" lang="en-US" sz="4800" spc="-1" strike="noStrike">
              <a:solidFill>
                <a:srgbClr val="6f6e4a"/>
              </a:solidFill>
              <a:latin typeface="Georgia"/>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rms can segment and target markets </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By country</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By global segmen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Using multiple criteria</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192479C7-16AA-44D1-9279-60BF18CFF91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hy Firms Alter Products</a:t>
            </a:r>
            <a:endParaRPr b="0" lang="en-US" sz="4800" spc="-1" strike="noStrike">
              <a:solidFill>
                <a:srgbClr val="6f6e4a"/>
              </a:solidFill>
              <a:latin typeface="Georgia"/>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rms alter products for </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Legal considerations</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Labeling requirements</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nvironmental protection regulations</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direct legal consideration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ultural consideration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conomic consideration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1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375384E3-F3C8-43FA-91D7-2DA5D50D0AB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he Product Line: </a:t>
            </a:r>
            <a:br>
              <a:rPr sz="4400"/>
            </a:br>
            <a:r>
              <a:rPr b="0" lang="en-US" sz="4400" spc="-1" strike="noStrike">
                <a:solidFill>
                  <a:srgbClr val="6f6e4a"/>
                </a:solidFill>
                <a:latin typeface="Georgia"/>
              </a:rPr>
              <a:t>Extent and Mix</a:t>
            </a:r>
            <a:endParaRPr b="0" lang="en-US" sz="4400" spc="-1" strike="noStrike">
              <a:solidFill>
                <a:srgbClr val="6f6e4a"/>
              </a:solidFill>
              <a:latin typeface="Georgia"/>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oduct line decisions depend on</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ales and cost consideration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oduct life cycle considerations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2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9DCCD6FB-B333-41A0-BFDB-3BFB3FA3186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ricing Strategies</a:t>
            </a:r>
            <a:endParaRPr b="0" lang="en-US" sz="4800" spc="-1" strike="noStrike">
              <a:solidFill>
                <a:srgbClr val="6f6e4a"/>
              </a:solidFill>
              <a:latin typeface="Georgia"/>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otential obstacles in international pricing</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overnment intervent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et minimum or maximum pricing</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hibit certain pricing practices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rket diversity</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nsumers may be willing to pay higher prices Wet markets in china</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EC9F45A7-C996-4BA0-B2DD-B5BE164959C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ricing Strategies</a:t>
            </a:r>
            <a:endParaRPr b="0" lang="en-US" sz="4800" spc="-1" strike="noStrike">
              <a:solidFill>
                <a:srgbClr val="6f6e4a"/>
              </a:solidFill>
              <a:latin typeface="Georgia"/>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icing tactic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kimming strateg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enetration strateg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st-plus strategy</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xport price escalat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luctuations in currency value</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4FE513BC-E700-4352-9663-62BBC028C47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ricing Strategies</a:t>
            </a:r>
            <a:endParaRPr b="0" lang="en-US" sz="4800" spc="-1" strike="noStrike">
              <a:solidFill>
                <a:srgbClr val="6f6e4a"/>
              </a:solidFill>
              <a:latin typeface="Georgi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Gray market </a:t>
            </a:r>
            <a:r>
              <a:rPr b="0" lang="en-US" sz="2800" spc="-1" strike="noStrike">
                <a:solidFill>
                  <a:srgbClr val="666699"/>
                </a:solidFill>
                <a:latin typeface="Verdana"/>
              </a:rPr>
              <a:t>or </a:t>
            </a:r>
            <a:r>
              <a:rPr b="1" lang="en-US" sz="2800" spc="-1" strike="noStrike">
                <a:solidFill>
                  <a:srgbClr val="666699"/>
                </a:solidFill>
                <a:latin typeface="Verdana"/>
              </a:rPr>
              <a:t>product diversion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selling and handling of goods through unofficial distributors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4T16:14:31Z</dcterms:created>
  <dc:creator>Veronica</dc:creator>
  <dc:description/>
  <dc:language>en-US</dc:language>
  <cp:lastModifiedBy>Saju Valliara Jose</cp:lastModifiedBy>
  <dcterms:modified xsi:type="dcterms:W3CDTF">2020-06-06T04:08:45Z</dcterms:modified>
  <cp:revision>26</cp:revision>
  <dc:subject/>
  <dc:title>International Business Environments &amp; Operations</dc:title>
</cp:coreProperties>
</file>