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588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03480" y="704520"/>
            <a:ext cx="4695840" cy="352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50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91972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5880" y="891972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A65EE5B-FB9A-4877-9FC0-F4BC834B9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025880" y="892008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C566B2-05DD-4037-898B-8A5A235EE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025880" y="892008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21F40E-0DD3-4393-B4A9-DE9210F83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025880" y="892008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51D7F8-6E4B-4CC7-AADA-549F0D1CD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5880" y="892008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1F900A-EE19-40D4-A2E0-03795A87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5880" y="892008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9952E0-E7B9-4036-BC5E-457AA0FA7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5880" y="892008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9BA666A-1A4E-44FA-BEA8-1912313D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44640" y="4458960"/>
            <a:ext cx="5208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224000" y="717480"/>
            <a:ext cx="4659120" cy="3494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f687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50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838080" y="838080"/>
            <a:ext cx="762012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Process Improvement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Selection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 an issue or opportunity that can be written as a problem stat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st be within your sphere of influ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not an attempt to solve world hun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s data that is accessible to you or can be collected in a reasonable amount of effort/tim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 have the ability to measure the current and future state.  You have access to baseline data or can collect i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ferably uses more continuous data (rather than all discrete dat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xing this problem will provide value.  You should develop a business case to support working this issue (consider your time and others when calculating ROI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rove 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exp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rove the output of your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rease wai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329600" y="650412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g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58720" y="3929040"/>
            <a:ext cx="84106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)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ecutive Summary :: Storyboar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hould be presented in 1 PowerPoint sli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 DMAIC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the problem statement and bas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east 5 differ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s/techniques (present relevant key tools to best tell your stor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readable; summarize and condense exhibits whe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rrows, call out boxes, and balloons to highlight questions and key learn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data/charts supporting your findings and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results or expected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58720" y="173160"/>
            <a:ext cx="77724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Process Improvement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-Requirement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329600" y="650412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g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74600" y="1392120"/>
            <a:ext cx="887580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lnSpc>
                <a:spcPct val="100000"/>
              </a:lnSpc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nal submission should be 1 file, in slide format, created in PowerPoi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should include 2 par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ecutive summary sli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 1 slide Storyboard (specific requirements below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ack-up slid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additional 5-15 slides (specific requirements pgs. 3-4).  This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repeat/copy of your storyboard. The back-up slides should detail and support the content of your storybo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99880" y="1058760"/>
            <a:ext cx="871704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ack-up slid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ollowing the Storyboard include 5-15 slides containing the answers to the following ques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your goal? How will you know if you’ve been success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clear operational definitions been established for your inputs and outpu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process you’re trying to improve? What are the current steps of the proc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your Data Measurement Plan or Data Stratification Tree (examples on pgs. 5-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ype of data did you collect (cost, cycle time, changeover time, yield, machine utilization, scrap, rework, defects, inventory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that data continuous or discre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d you collect your own data or did you use existing d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uch data did you collect and why? What is your ideal sample size using the sample size formula? What is the risk if you collected fewer sampl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as your data collected? Describe the methods you used to collect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ould you have measurement error? How much measurement error do you have? What could you do to minimize your measurement error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676440" y="0"/>
            <a:ext cx="77724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Process Improvement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-Requirement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7296120" y="6473880"/>
            <a:ext cx="180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g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99880" y="1058760"/>
            <a:ext cx="871704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ack-up slid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inu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ools did you use to analyze the data? (Utilize at lea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different tools/techniq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how evidence and detail of the tool/techniqu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data telling you?  What did you discov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SQL for the old and new proc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MPR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olutions did you propose and/or implement?  Did you successfully improve your process?  What did you learn about your proc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ill you use this information to “hold the gains” of your improvement or make the next round of improvements in your proc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676440" y="0"/>
            <a:ext cx="77724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Process Improvement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-Requirement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7288200" y="648000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g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Data Stratification Tree</a:t>
            </a:r>
            <a:endParaRPr b="0" lang="en-US" sz="28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5440" y="110808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bd47"/>
                </a:solidFill>
                <a:uFillTx/>
                <a:latin typeface="Tahoma"/>
              </a:rPr>
              <a:t>Questions Abou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985560" y="1095480"/>
            <a:ext cx="1758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bd47"/>
                </a:solidFill>
                <a:latin typeface="Tahoma"/>
              </a:rPr>
              <a:t>Stratification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bd47"/>
                </a:solidFill>
                <a:uFillTx/>
                <a:latin typeface="Tahoma"/>
              </a:rPr>
              <a:t>X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73120" y="119700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bd47"/>
                </a:solidFill>
                <a:uFillTx/>
                <a:latin typeface="Tahoma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2840040" y="3645000"/>
            <a:ext cx="10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639880" y="3306600"/>
            <a:ext cx="15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ew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014720" y="3116160"/>
            <a:ext cx="12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ime of year (m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014000" y="2703600"/>
            <a:ext cx="6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019400" y="192708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kil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014720" y="4408560"/>
            <a:ext cx="7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ait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778120" y="3652920"/>
            <a:ext cx="1216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bd47"/>
                </a:solidFill>
                <a:latin typeface="Tahoma"/>
              </a:rPr>
              <a:t>(Output 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64960" y="2643120"/>
            <a:ext cx="237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es the Sales Rep have the right skills to improve selling more 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214200" y="1525680"/>
            <a:ext cx="279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re orders impacted by the sales rep skill-levels (systems, product, pricing, listening, ability to follow the process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025880" y="484812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icing 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014000" y="355428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ustomer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4025880" y="5602320"/>
            <a:ext cx="11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.of back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139680" y="3106800"/>
            <a:ext cx="268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new orders vary by mont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5772240" y="1935000"/>
            <a:ext cx="315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of  orders per Sales Rep by skill level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erage &amp; range of Sales Rep skill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290520" y="2224080"/>
            <a:ext cx="23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hat %  of  the calls are order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27160" y="3405240"/>
            <a:ext cx="22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new orders change by the receptiveness of the custo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176040" y="4179960"/>
            <a:ext cx="271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re orders impacted by call wait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89000" y="4573440"/>
            <a:ext cx="28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re orders impacted by pricing issu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176040" y="496728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re orders impacted by whether or not the Sales Rep follows the written proc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74520" y="5398920"/>
            <a:ext cx="293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new orders vary by the availability of the product (not on backord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7"/>
          <p:cNvSpPr/>
          <p:nvPr/>
        </p:nvSpPr>
        <p:spPr>
          <a:xfrm>
            <a:off x="2827440" y="3360600"/>
            <a:ext cx="0" cy="14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8"/>
          <p:cNvSpPr/>
          <p:nvPr/>
        </p:nvSpPr>
        <p:spPr>
          <a:xfrm flipH="1">
            <a:off x="236160" y="44830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9"/>
          <p:cNvSpPr/>
          <p:nvPr/>
        </p:nvSpPr>
        <p:spPr>
          <a:xfrm>
            <a:off x="3963960" y="3403440"/>
            <a:ext cx="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3963960" y="340344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4013280" y="233532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ype of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4013280" y="5222880"/>
            <a:ext cx="10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te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5778360" y="236376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type of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4"/>
          <p:cNvSpPr/>
          <p:nvPr/>
        </p:nvSpPr>
        <p:spPr>
          <a:xfrm>
            <a:off x="5772240" y="4348080"/>
            <a:ext cx="24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ait time for each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5775480" y="35830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ustomer attitude rating by order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5769000" y="4753080"/>
            <a:ext cx="319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of calls transferred to OB due to pricing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5769360" y="5208480"/>
            <a:ext cx="316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ystery call /silent monitoring results (points per c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5766840" y="5578560"/>
            <a:ext cx="219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of orders resulting in back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5785560" y="2960640"/>
            <a:ext cx="287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tal orders placed by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new orders are of total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new order revenue of total revenue by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5772240" y="2658960"/>
            <a:ext cx="27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. of hours of training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1"/>
          <p:cNvSpPr/>
          <p:nvPr/>
        </p:nvSpPr>
        <p:spPr>
          <a:xfrm>
            <a:off x="4699080" y="1625760"/>
            <a:ext cx="368280" cy="317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b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2"/>
          <p:cNvSpPr/>
          <p:nvPr/>
        </p:nvSpPr>
        <p:spPr>
          <a:xfrm>
            <a:off x="7327800" y="1511280"/>
            <a:ext cx="368280" cy="317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b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114480" y="3849840"/>
            <a:ext cx="28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re orders impacted by call du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4026240" y="401472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ll d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5"/>
          <p:cNvSpPr/>
          <p:nvPr/>
        </p:nvSpPr>
        <p:spPr>
          <a:xfrm>
            <a:off x="5772240" y="3916440"/>
            <a:ext cx="31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erage call duration for xyz order vs. other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6"/>
          <p:cNvSpPr/>
          <p:nvPr/>
        </p:nvSpPr>
        <p:spPr>
          <a:xfrm flipH="1">
            <a:off x="282240" y="6394320"/>
            <a:ext cx="255276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7"/>
          <p:cNvGrpSpPr/>
          <p:nvPr/>
        </p:nvGrpSpPr>
        <p:grpSpPr>
          <a:xfrm>
            <a:off x="236160" y="1409760"/>
            <a:ext cx="2595600" cy="4995720"/>
            <a:chOff x="236160" y="1409760"/>
            <a:chExt cx="2595600" cy="4995720"/>
          </a:xfrm>
        </p:grpSpPr>
        <p:sp>
          <p:nvSpPr>
            <p:cNvPr id="103" name="Line 48"/>
            <p:cNvSpPr/>
            <p:nvPr/>
          </p:nvSpPr>
          <p:spPr>
            <a:xfrm>
              <a:off x="2827440" y="2128680"/>
              <a:ext cx="0" cy="137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9"/>
            <p:cNvSpPr/>
            <p:nvPr/>
          </p:nvSpPr>
          <p:spPr>
            <a:xfrm flipH="1">
              <a:off x="236160" y="21286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50"/>
            <p:cNvSpPr/>
            <p:nvPr/>
          </p:nvSpPr>
          <p:spPr>
            <a:xfrm flipH="1">
              <a:off x="236160" y="25876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1"/>
            <p:cNvSpPr/>
            <p:nvPr/>
          </p:nvSpPr>
          <p:spPr>
            <a:xfrm flipH="1">
              <a:off x="236160" y="304632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2"/>
            <p:cNvSpPr/>
            <p:nvPr/>
          </p:nvSpPr>
          <p:spPr>
            <a:xfrm flipH="1">
              <a:off x="236160" y="340344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3"/>
            <p:cNvSpPr/>
            <p:nvPr/>
          </p:nvSpPr>
          <p:spPr>
            <a:xfrm flipH="1">
              <a:off x="236160" y="38322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4"/>
            <p:cNvSpPr/>
            <p:nvPr/>
          </p:nvSpPr>
          <p:spPr>
            <a:xfrm flipH="1">
              <a:off x="236160" y="415116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5"/>
            <p:cNvSpPr/>
            <p:nvPr/>
          </p:nvSpPr>
          <p:spPr>
            <a:xfrm flipV="1">
              <a:off x="2825640" y="1428840"/>
              <a:ext cx="324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6"/>
            <p:cNvSpPr/>
            <p:nvPr/>
          </p:nvSpPr>
          <p:spPr>
            <a:xfrm flipH="1">
              <a:off x="253800" y="1409760"/>
              <a:ext cx="25779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57"/>
            <p:cNvGrpSpPr/>
            <p:nvPr/>
          </p:nvGrpSpPr>
          <p:grpSpPr>
            <a:xfrm>
              <a:off x="236520" y="4478400"/>
              <a:ext cx="2590560" cy="1379520"/>
              <a:chOff x="236520" y="4478400"/>
              <a:chExt cx="2590560" cy="1379520"/>
            </a:xfrm>
          </p:grpSpPr>
          <p:sp>
            <p:nvSpPr>
              <p:cNvPr id="113" name="Line 58"/>
              <p:cNvSpPr/>
              <p:nvPr/>
            </p:nvSpPr>
            <p:spPr>
              <a:xfrm>
                <a:off x="2827080" y="4478400"/>
                <a:ext cx="0" cy="137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9"/>
              <p:cNvSpPr/>
              <p:nvPr/>
            </p:nvSpPr>
            <p:spPr>
              <a:xfrm flipH="1">
                <a:off x="236520" y="447840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60"/>
              <p:cNvSpPr/>
              <p:nvPr/>
            </p:nvSpPr>
            <p:spPr>
              <a:xfrm flipH="1">
                <a:off x="236520" y="493668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61"/>
              <p:cNvSpPr/>
              <p:nvPr/>
            </p:nvSpPr>
            <p:spPr>
              <a:xfrm flipH="1">
                <a:off x="236520" y="539532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62"/>
              <p:cNvSpPr/>
              <p:nvPr/>
            </p:nvSpPr>
            <p:spPr>
              <a:xfrm flipH="1">
                <a:off x="236520" y="585432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Line 63"/>
            <p:cNvSpPr/>
            <p:nvPr/>
          </p:nvSpPr>
          <p:spPr>
            <a:xfrm>
              <a:off x="2828880" y="586260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64"/>
          <p:cNvSpPr/>
          <p:nvPr/>
        </p:nvSpPr>
        <p:spPr>
          <a:xfrm>
            <a:off x="100080" y="5970600"/>
            <a:ext cx="293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the current targets impact 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65"/>
          <p:cNvGrpSpPr/>
          <p:nvPr/>
        </p:nvGrpSpPr>
        <p:grpSpPr>
          <a:xfrm>
            <a:off x="3959280" y="2230560"/>
            <a:ext cx="1770120" cy="3984480"/>
            <a:chOff x="3959280" y="2230560"/>
            <a:chExt cx="1770120" cy="3984480"/>
          </a:xfrm>
        </p:grpSpPr>
        <p:sp>
          <p:nvSpPr>
            <p:cNvPr id="121" name="Line 66"/>
            <p:cNvSpPr/>
            <p:nvPr/>
          </p:nvSpPr>
          <p:spPr>
            <a:xfrm>
              <a:off x="3963960" y="3862440"/>
              <a:ext cx="174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7"/>
            <p:cNvSpPr/>
            <p:nvPr/>
          </p:nvSpPr>
          <p:spPr>
            <a:xfrm>
              <a:off x="3963960" y="43228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68"/>
            <p:cNvSpPr/>
            <p:nvPr/>
          </p:nvSpPr>
          <p:spPr>
            <a:xfrm>
              <a:off x="3963960" y="4782960"/>
              <a:ext cx="1727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69"/>
            <p:cNvSpPr/>
            <p:nvPr/>
          </p:nvSpPr>
          <p:spPr>
            <a:xfrm>
              <a:off x="3963960" y="4791240"/>
              <a:ext cx="0" cy="14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70"/>
            <p:cNvSpPr/>
            <p:nvPr/>
          </p:nvSpPr>
          <p:spPr>
            <a:xfrm>
              <a:off x="3963960" y="516096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71"/>
            <p:cNvSpPr/>
            <p:nvPr/>
          </p:nvSpPr>
          <p:spPr>
            <a:xfrm>
              <a:off x="3963960" y="55450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2"/>
            <p:cNvSpPr/>
            <p:nvPr/>
          </p:nvSpPr>
          <p:spPr>
            <a:xfrm>
              <a:off x="3963960" y="58626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73"/>
            <p:cNvSpPr/>
            <p:nvPr/>
          </p:nvSpPr>
          <p:spPr>
            <a:xfrm>
              <a:off x="3963960" y="2230560"/>
              <a:ext cx="0" cy="11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74"/>
            <p:cNvSpPr/>
            <p:nvPr/>
          </p:nvSpPr>
          <p:spPr>
            <a:xfrm>
              <a:off x="3963960" y="223056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75"/>
            <p:cNvSpPr/>
            <p:nvPr/>
          </p:nvSpPr>
          <p:spPr>
            <a:xfrm>
              <a:off x="3963960" y="2622600"/>
              <a:ext cx="1765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76"/>
            <p:cNvSpPr/>
            <p:nvPr/>
          </p:nvSpPr>
          <p:spPr>
            <a:xfrm>
              <a:off x="3963960" y="30146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7"/>
            <p:cNvSpPr/>
            <p:nvPr/>
          </p:nvSpPr>
          <p:spPr>
            <a:xfrm>
              <a:off x="3963960" y="34066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8"/>
            <p:cNvSpPr/>
            <p:nvPr/>
          </p:nvSpPr>
          <p:spPr>
            <a:xfrm>
              <a:off x="3959280" y="62150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79"/>
          <p:cNvSpPr/>
          <p:nvPr/>
        </p:nvSpPr>
        <p:spPr>
          <a:xfrm>
            <a:off x="3936600" y="5902200"/>
            <a:ext cx="190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arget settings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(calls, orders, reven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5779080" y="5897520"/>
            <a:ext cx="30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lls, orders, total rev,  rev  per mo. per Sales 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84"/>
          <p:cNvSpPr txBox="1"/>
          <p:nvPr/>
        </p:nvSpPr>
        <p:spPr>
          <a:xfrm>
            <a:off x="5181480" y="3505320"/>
            <a:ext cx="306252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9d9d9"/>
                </a:solidFill>
                <a:latin typeface="Arial Black"/>
              </a:rPr>
              <a:t>Examp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9d9d9"/>
              </a:solidFill>
              <a:latin typeface="Arial Black"/>
              <a:ea typeface="Arial Black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7288200" y="648000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g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Data Measurement Plan</a:t>
            </a:r>
            <a:endParaRPr b="0" lang="en-US" sz="2800" spc="-1" strike="noStrike">
              <a:solidFill>
                <a:srgbClr val="505046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01600" y="787320"/>
            <a:ext cx="8786880" cy="546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1003320"/>
            <a:ext cx="143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Performance Measur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549600" y="888840"/>
            <a:ext cx="86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Data Source and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8389800" y="817560"/>
            <a:ext cx="6400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Targ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Samp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S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877080" y="838080"/>
            <a:ext cx="868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Who Will Collec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607160" y="801720"/>
            <a:ext cx="8686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When Will Data Be Coll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187960" y="826920"/>
            <a:ext cx="868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How Will Data Be Coll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3232080" y="798480"/>
            <a:ext cx="12600" cy="572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6966000" y="798480"/>
            <a:ext cx="12600" cy="578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4981680" y="811080"/>
            <a:ext cx="0" cy="577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8366040" y="798480"/>
            <a:ext cx="0" cy="57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365040" y="320976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369720" y="1828800"/>
            <a:ext cx="857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355680" y="207972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365040" y="232740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365040" y="293688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352440" y="468324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365040" y="496260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369720" y="3505320"/>
            <a:ext cx="857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355680" y="378144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3"/>
          <p:cNvSpPr/>
          <p:nvPr/>
        </p:nvSpPr>
        <p:spPr>
          <a:xfrm>
            <a:off x="365040" y="408636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4"/>
          <p:cNvSpPr/>
          <p:nvPr/>
        </p:nvSpPr>
        <p:spPr>
          <a:xfrm>
            <a:off x="352440" y="437832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5"/>
          <p:cNvSpPr/>
          <p:nvPr/>
        </p:nvSpPr>
        <p:spPr>
          <a:xfrm>
            <a:off x="355680" y="530532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6"/>
          <p:cNvSpPr/>
          <p:nvPr/>
        </p:nvSpPr>
        <p:spPr>
          <a:xfrm>
            <a:off x="7670880" y="800280"/>
            <a:ext cx="0" cy="57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317520" y="179244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type of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355680" y="608004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9"/>
          <p:cNvSpPr/>
          <p:nvPr/>
        </p:nvSpPr>
        <p:spPr>
          <a:xfrm>
            <a:off x="355680" y="573732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294120" y="4967280"/>
            <a:ext cx="18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. of inbound calls p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295200" y="5398920"/>
            <a:ext cx="278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rder revenue per Sales Rep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368280" y="6334200"/>
            <a:ext cx="860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270000" y="5818320"/>
            <a:ext cx="162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tal revenue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279360" y="6097680"/>
            <a:ext cx="22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per month by product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3206880" y="179532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al data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3193920" y="1440000"/>
            <a:ext cx="17337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7"/>
          <p:cNvSpPr/>
          <p:nvPr/>
        </p:nvSpPr>
        <p:spPr>
          <a:xfrm>
            <a:off x="4933800" y="1351080"/>
            <a:ext cx="2521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velop rating scale &amp; assess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3193920" y="2049480"/>
            <a:ext cx="1784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ohn’s training 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4984920" y="1808280"/>
            <a:ext cx="17841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e data collec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0"/>
          <p:cNvSpPr/>
          <p:nvPr/>
        </p:nvSpPr>
        <p:spPr>
          <a:xfrm>
            <a:off x="4971960" y="204948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al data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3193920" y="295128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al data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3193920" y="321804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al data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3"/>
          <p:cNvSpPr/>
          <p:nvPr/>
        </p:nvSpPr>
        <p:spPr>
          <a:xfrm>
            <a:off x="3193920" y="2354400"/>
            <a:ext cx="17337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B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6915240" y="1351080"/>
            <a:ext cx="1047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4997520" y="2938320"/>
            <a:ext cx="17841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e data collec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4984920" y="3801960"/>
            <a:ext cx="17841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e data collec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7"/>
          <p:cNvSpPr/>
          <p:nvPr/>
        </p:nvSpPr>
        <p:spPr>
          <a:xfrm>
            <a:off x="4984920" y="4398840"/>
            <a:ext cx="17841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e data collec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8"/>
          <p:cNvSpPr/>
          <p:nvPr/>
        </p:nvSpPr>
        <p:spPr>
          <a:xfrm>
            <a:off x="4946760" y="3218040"/>
            <a:ext cx="17841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e data collec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9"/>
          <p:cNvSpPr/>
          <p:nvPr/>
        </p:nvSpPr>
        <p:spPr>
          <a:xfrm>
            <a:off x="7004160" y="182088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0"/>
          <p:cNvSpPr/>
          <p:nvPr/>
        </p:nvSpPr>
        <p:spPr>
          <a:xfrm>
            <a:off x="6966000" y="293832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1"/>
          <p:cNvSpPr/>
          <p:nvPr/>
        </p:nvSpPr>
        <p:spPr>
          <a:xfrm>
            <a:off x="6991200" y="204948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6978600" y="326880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3"/>
          <p:cNvSpPr/>
          <p:nvPr/>
        </p:nvSpPr>
        <p:spPr>
          <a:xfrm>
            <a:off x="6940440" y="381492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4"/>
          <p:cNvSpPr/>
          <p:nvPr/>
        </p:nvSpPr>
        <p:spPr>
          <a:xfrm>
            <a:off x="6915240" y="441180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5"/>
          <p:cNvSpPr/>
          <p:nvPr/>
        </p:nvSpPr>
        <p:spPr>
          <a:xfrm>
            <a:off x="7639200" y="1795320"/>
            <a:ext cx="793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/11-6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6"/>
          <p:cNvSpPr/>
          <p:nvPr/>
        </p:nvSpPr>
        <p:spPr>
          <a:xfrm>
            <a:off x="7765920" y="2036880"/>
            <a:ext cx="4762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/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7"/>
          <p:cNvSpPr/>
          <p:nvPr/>
        </p:nvSpPr>
        <p:spPr>
          <a:xfrm>
            <a:off x="7753320" y="1338120"/>
            <a:ext cx="4762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8"/>
          <p:cNvSpPr/>
          <p:nvPr/>
        </p:nvSpPr>
        <p:spPr>
          <a:xfrm>
            <a:off x="8325000" y="1820880"/>
            <a:ext cx="73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000 c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9"/>
          <p:cNvSpPr/>
          <p:nvPr/>
        </p:nvSpPr>
        <p:spPr>
          <a:xfrm>
            <a:off x="8337600" y="3801960"/>
            <a:ext cx="67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000 c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8337600" y="3243240"/>
            <a:ext cx="692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500 or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1"/>
          <p:cNvSpPr/>
          <p:nvPr/>
        </p:nvSpPr>
        <p:spPr>
          <a:xfrm>
            <a:off x="8350200" y="2951280"/>
            <a:ext cx="692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500 or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2"/>
          <p:cNvSpPr/>
          <p:nvPr/>
        </p:nvSpPr>
        <p:spPr>
          <a:xfrm>
            <a:off x="4984920" y="2405160"/>
            <a:ext cx="14792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ll from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6953400" y="237960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e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4"/>
          <p:cNvSpPr/>
          <p:nvPr/>
        </p:nvSpPr>
        <p:spPr>
          <a:xfrm>
            <a:off x="7753320" y="2392200"/>
            <a:ext cx="603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y 6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8426520" y="2392200"/>
            <a:ext cx="6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8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6"/>
          <p:cNvSpPr/>
          <p:nvPr/>
        </p:nvSpPr>
        <p:spPr>
          <a:xfrm>
            <a:off x="7651800" y="2938320"/>
            <a:ext cx="793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/11 - 6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7"/>
          <p:cNvSpPr/>
          <p:nvPr/>
        </p:nvSpPr>
        <p:spPr>
          <a:xfrm>
            <a:off x="8362800" y="3510000"/>
            <a:ext cx="552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8"/>
          <p:cNvSpPr/>
          <p:nvPr/>
        </p:nvSpPr>
        <p:spPr>
          <a:xfrm>
            <a:off x="7651800" y="3218040"/>
            <a:ext cx="793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/11 - 6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9"/>
          <p:cNvSpPr/>
          <p:nvPr/>
        </p:nvSpPr>
        <p:spPr>
          <a:xfrm>
            <a:off x="7664400" y="3801960"/>
            <a:ext cx="793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/11 - 6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0"/>
          <p:cNvSpPr/>
          <p:nvPr/>
        </p:nvSpPr>
        <p:spPr>
          <a:xfrm>
            <a:off x="7613640" y="4424400"/>
            <a:ext cx="793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/11 - 6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3244680" y="378936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al data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2"/>
          <p:cNvSpPr/>
          <p:nvPr/>
        </p:nvSpPr>
        <p:spPr>
          <a:xfrm>
            <a:off x="3219480" y="438624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al data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3"/>
          <p:cNvSpPr/>
          <p:nvPr/>
        </p:nvSpPr>
        <p:spPr>
          <a:xfrm>
            <a:off x="7765920" y="3510000"/>
            <a:ext cx="540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4"/>
          <p:cNvSpPr/>
          <p:nvPr/>
        </p:nvSpPr>
        <p:spPr>
          <a:xfrm>
            <a:off x="3181320" y="4094280"/>
            <a:ext cx="19112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onthly mystery call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5"/>
          <p:cNvSpPr/>
          <p:nvPr/>
        </p:nvSpPr>
        <p:spPr>
          <a:xfrm>
            <a:off x="6953400" y="410688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e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6"/>
          <p:cNvSpPr/>
          <p:nvPr/>
        </p:nvSpPr>
        <p:spPr>
          <a:xfrm>
            <a:off x="7664400" y="4081320"/>
            <a:ext cx="793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y 6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7"/>
          <p:cNvSpPr/>
          <p:nvPr/>
        </p:nvSpPr>
        <p:spPr>
          <a:xfrm>
            <a:off x="4984920" y="4094280"/>
            <a:ext cx="2089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mpile Pamela’s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8"/>
          <p:cNvSpPr/>
          <p:nvPr/>
        </p:nvSpPr>
        <p:spPr>
          <a:xfrm>
            <a:off x="8464680" y="4094280"/>
            <a:ext cx="438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8325000" y="44496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500 or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8413920" y="2036880"/>
            <a:ext cx="6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2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8426520" y="4970520"/>
            <a:ext cx="6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8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8439120" y="5389560"/>
            <a:ext cx="6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8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8477280" y="5834160"/>
            <a:ext cx="6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8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6966000" y="607536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e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8477280" y="6100920"/>
            <a:ext cx="6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3181320" y="3484440"/>
            <a:ext cx="2050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btain from other 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4946760" y="3535200"/>
            <a:ext cx="1606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spect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6966000" y="352260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e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311040" y="1389240"/>
            <a:ext cx="297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of  orders per Sales Rep by skill level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erage &amp; range of Sales Rep skill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298440" y="3497400"/>
            <a:ext cx="24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ait time for each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1"/>
          <p:cNvSpPr/>
          <p:nvPr/>
        </p:nvSpPr>
        <p:spPr>
          <a:xfrm>
            <a:off x="327240" y="293544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ustomer attitude rating by order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2"/>
          <p:cNvSpPr/>
          <p:nvPr/>
        </p:nvSpPr>
        <p:spPr>
          <a:xfrm>
            <a:off x="155520" y="3787920"/>
            <a:ext cx="319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of calls transferred to OB due to pricing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3"/>
          <p:cNvSpPr/>
          <p:nvPr/>
        </p:nvSpPr>
        <p:spPr>
          <a:xfrm>
            <a:off x="156240" y="4078440"/>
            <a:ext cx="316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ystery call /silent monitoring results (points per c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4"/>
          <p:cNvSpPr/>
          <p:nvPr/>
        </p:nvSpPr>
        <p:spPr>
          <a:xfrm>
            <a:off x="433080" y="4422600"/>
            <a:ext cx="219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of orders resulting in back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5"/>
          <p:cNvSpPr/>
          <p:nvPr/>
        </p:nvSpPr>
        <p:spPr>
          <a:xfrm>
            <a:off x="398880" y="2325600"/>
            <a:ext cx="260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tal orders placed by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 new  orders are of total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order revenue of total revenue by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96"/>
          <p:cNvSpPr/>
          <p:nvPr/>
        </p:nvSpPr>
        <p:spPr>
          <a:xfrm>
            <a:off x="279360" y="2062080"/>
            <a:ext cx="27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. of hours of training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7"/>
          <p:cNvSpPr/>
          <p:nvPr/>
        </p:nvSpPr>
        <p:spPr>
          <a:xfrm>
            <a:off x="285840" y="3218040"/>
            <a:ext cx="31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erage call duration for new order vs.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8"/>
          <p:cNvSpPr/>
          <p:nvPr/>
        </p:nvSpPr>
        <p:spPr>
          <a:xfrm>
            <a:off x="283680" y="4678200"/>
            <a:ext cx="28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lls, orders, total rev, per Sales Rep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9"/>
          <p:cNvSpPr/>
          <p:nvPr/>
        </p:nvSpPr>
        <p:spPr>
          <a:xfrm>
            <a:off x="8515440" y="1465200"/>
            <a:ext cx="45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3282840" y="4665600"/>
            <a:ext cx="17337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B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1"/>
          <p:cNvSpPr/>
          <p:nvPr/>
        </p:nvSpPr>
        <p:spPr>
          <a:xfrm>
            <a:off x="5073480" y="471636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ll from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2"/>
          <p:cNvSpPr/>
          <p:nvPr/>
        </p:nvSpPr>
        <p:spPr>
          <a:xfrm>
            <a:off x="6978600" y="467820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3"/>
          <p:cNvSpPr/>
          <p:nvPr/>
        </p:nvSpPr>
        <p:spPr>
          <a:xfrm>
            <a:off x="7702560" y="4691160"/>
            <a:ext cx="603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y 6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4"/>
          <p:cNvSpPr/>
          <p:nvPr/>
        </p:nvSpPr>
        <p:spPr>
          <a:xfrm>
            <a:off x="8515440" y="4691160"/>
            <a:ext cx="6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8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5"/>
          <p:cNvSpPr/>
          <p:nvPr/>
        </p:nvSpPr>
        <p:spPr>
          <a:xfrm>
            <a:off x="3219480" y="4995720"/>
            <a:ext cx="1733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B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6"/>
          <p:cNvSpPr/>
          <p:nvPr/>
        </p:nvSpPr>
        <p:spPr>
          <a:xfrm>
            <a:off x="5010120" y="504684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ll from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7"/>
          <p:cNvSpPr/>
          <p:nvPr/>
        </p:nvSpPr>
        <p:spPr>
          <a:xfrm>
            <a:off x="3257640" y="5376960"/>
            <a:ext cx="1733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B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8"/>
          <p:cNvSpPr/>
          <p:nvPr/>
        </p:nvSpPr>
        <p:spPr>
          <a:xfrm>
            <a:off x="5048280" y="542772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ll from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9"/>
          <p:cNvSpPr/>
          <p:nvPr/>
        </p:nvSpPr>
        <p:spPr>
          <a:xfrm>
            <a:off x="3219480" y="5821200"/>
            <a:ext cx="1733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B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10"/>
          <p:cNvSpPr/>
          <p:nvPr/>
        </p:nvSpPr>
        <p:spPr>
          <a:xfrm>
            <a:off x="5010120" y="580860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ll from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1"/>
          <p:cNvSpPr/>
          <p:nvPr/>
        </p:nvSpPr>
        <p:spPr>
          <a:xfrm>
            <a:off x="3282840" y="6049800"/>
            <a:ext cx="17337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N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2"/>
          <p:cNvSpPr/>
          <p:nvPr/>
        </p:nvSpPr>
        <p:spPr>
          <a:xfrm>
            <a:off x="5073480" y="6100920"/>
            <a:ext cx="1479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ll from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3"/>
          <p:cNvSpPr/>
          <p:nvPr/>
        </p:nvSpPr>
        <p:spPr>
          <a:xfrm>
            <a:off x="7677000" y="5008680"/>
            <a:ext cx="603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y 6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4"/>
          <p:cNvSpPr/>
          <p:nvPr/>
        </p:nvSpPr>
        <p:spPr>
          <a:xfrm>
            <a:off x="7715160" y="5440320"/>
            <a:ext cx="603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y 6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15"/>
          <p:cNvSpPr/>
          <p:nvPr/>
        </p:nvSpPr>
        <p:spPr>
          <a:xfrm>
            <a:off x="7702560" y="5821200"/>
            <a:ext cx="603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y 6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16"/>
          <p:cNvSpPr/>
          <p:nvPr/>
        </p:nvSpPr>
        <p:spPr>
          <a:xfrm>
            <a:off x="6966000" y="498312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17"/>
          <p:cNvSpPr/>
          <p:nvPr/>
        </p:nvSpPr>
        <p:spPr>
          <a:xfrm>
            <a:off x="6991200" y="545292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18"/>
          <p:cNvSpPr/>
          <p:nvPr/>
        </p:nvSpPr>
        <p:spPr>
          <a:xfrm>
            <a:off x="6991200" y="5783400"/>
            <a:ext cx="7048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9"/>
          <p:cNvSpPr/>
          <p:nvPr/>
        </p:nvSpPr>
        <p:spPr>
          <a:xfrm>
            <a:off x="7740720" y="6087960"/>
            <a:ext cx="603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y 6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120"/>
          <p:cNvSpPr txBox="1"/>
          <p:nvPr/>
        </p:nvSpPr>
        <p:spPr>
          <a:xfrm>
            <a:off x="3490920" y="2133720"/>
            <a:ext cx="306216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9d9d9"/>
                </a:solidFill>
                <a:latin typeface="Arial Black"/>
              </a:rPr>
              <a:t>Examp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9d9d9"/>
              </a:solidFill>
              <a:latin typeface="Arial Black"/>
              <a:ea typeface="Arial Black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7288200" y="648000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g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36440" y="1496880"/>
          <a:ext cx="8821800" cy="3492720"/>
        </p:xfrm>
        <a:graphic>
          <a:graphicData uri="http://schemas.openxmlformats.org/drawingml/2006/table">
            <a:tbl>
              <a:tblPr/>
              <a:tblGrid>
                <a:gridCol w="7548480"/>
                <a:gridCol w="12733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ent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sible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1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An executive summary is provided in the storyboard format including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 storyboard presented in 1 PowerPoint slide? Follows DMAIC?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 tools/graphs/charts used and clearly visible? Do they support findings and conclusions Are arrows, call-out boxes, etc. used to summarize, highlight questions and key learnings? Are expected results clear? And next steps not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)Is it a cohesive presentation opening with the business process and problem statement? The back-up slides (5-15) detail and support the storyboard cont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) Was the success measure clearly identified, operationally defined and baseline identified? (Was the data identified as continuous or discrete, includes SQL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) Was the data measurement plan or data stratification tree includ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) Was the data collection method identifi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) Was there rationale for the sample size taken? Use of the formula? Is there any reference to measurement error and how to minimiz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) Are at least 5 different tools and techniques clearly identified? Are the tools linked/ pertinent to the data analys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) Does the data analysis clearly tie to the problem conclusion?  Is the “discovery” clear to the reader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8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2"/>
          <p:cNvSpPr/>
          <p:nvPr/>
        </p:nvSpPr>
        <p:spPr>
          <a:xfrm>
            <a:off x="558720" y="173160"/>
            <a:ext cx="77724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Process Improvement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05046"/>
                </a:solidFill>
                <a:latin typeface="Arial"/>
              </a:rPr>
              <a:t>-Rubric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7329600" y="650412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ge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90720"/>
            <a:ext cx="9144000" cy="380880"/>
          </a:xfrm>
          <a:prstGeom prst="rect">
            <a:avLst/>
          </a:prstGeom>
          <a:solidFill>
            <a:srgbClr val="ffb5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4203720" y="1397160"/>
            <a:ext cx="25560" cy="5238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0" y="6248520"/>
            <a:ext cx="4216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507960" y="1473120"/>
            <a:ext cx="14479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EF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51240" y="1473120"/>
            <a:ext cx="1371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MEAS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965400" y="1430280"/>
            <a:ext cx="98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7709040" y="1265400"/>
            <a:ext cx="796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059520" y="1252440"/>
            <a:ext cx="7970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1955880" y="10152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Name of you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1296720" y="974880"/>
            <a:ext cx="63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ea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8547120" y="1265400"/>
            <a:ext cx="797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8551800" y="1274760"/>
            <a:ext cx="797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440080" y="974880"/>
            <a:ext cx="5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3736080" y="974880"/>
            <a:ext cx="69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a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5106960" y="974880"/>
            <a:ext cx="65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7698600" y="974880"/>
            <a:ext cx="63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6402600" y="97488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78840" y="1050840"/>
            <a:ext cx="102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ey Dates --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2"/>
          <p:cNvSpPr/>
          <p:nvPr/>
        </p:nvSpPr>
        <p:spPr>
          <a:xfrm>
            <a:off x="2362320" y="990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3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4"/>
          <p:cNvSpPr/>
          <p:nvPr/>
        </p:nvSpPr>
        <p:spPr>
          <a:xfrm>
            <a:off x="6400800" y="990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5"/>
          <p:cNvSpPr/>
          <p:nvPr/>
        </p:nvSpPr>
        <p:spPr>
          <a:xfrm>
            <a:off x="5029200" y="990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6"/>
          <p:cNvSpPr/>
          <p:nvPr/>
        </p:nvSpPr>
        <p:spPr>
          <a:xfrm>
            <a:off x="3657600" y="990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WordArt 37"/>
          <p:cNvSpPr txBox="1"/>
          <p:nvPr/>
        </p:nvSpPr>
        <p:spPr>
          <a:xfrm>
            <a:off x="152280" y="6256440"/>
            <a:ext cx="4064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70c0"/>
                </a:solidFill>
                <a:latin typeface="Andale Mono"/>
              </a:rPr>
              <a:t>TEAM MEMBERS</a:t>
            </a:r>
            <a:endParaRPr b="0" lang="en-US" sz="1600" spc="1" strike="noStrike">
              <a:ln w="0">
                <a:noFill/>
              </a:ln>
              <a:solidFill>
                <a:srgbClr val="0070c0"/>
              </a:solidFill>
              <a:latin typeface="Andale Mono"/>
              <a:ea typeface="Andale Mono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4648320" y="1422360"/>
            <a:ext cx="1371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ANALYZ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7162920" y="1397160"/>
            <a:ext cx="1371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MPRO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3"/>
          <p:cNvSpPr/>
          <p:nvPr/>
        </p:nvSpPr>
        <p:spPr>
          <a:xfrm flipH="1">
            <a:off x="6438960" y="1447920"/>
            <a:ext cx="38160" cy="51879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5"/>
          <p:cNvSpPr/>
          <p:nvPr/>
        </p:nvSpPr>
        <p:spPr>
          <a:xfrm>
            <a:off x="3327480" y="698400"/>
            <a:ext cx="58165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3951360" y="60948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05046"/>
                </a:solidFill>
                <a:latin typeface="Arial"/>
              </a:rPr>
              <a:t>Process owner: or you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>
            <a:off x="2108160" y="1346040"/>
            <a:ext cx="0" cy="48945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6"/>
          <p:cNvSpPr/>
          <p:nvPr/>
        </p:nvSpPr>
        <p:spPr>
          <a:xfrm rot="20082000">
            <a:off x="2057400" y="2655360"/>
            <a:ext cx="4635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Stencil"/>
              </a:rPr>
              <a:t>Storybo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Stenci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77"/>
          <p:cNvSpPr/>
          <p:nvPr/>
        </p:nvSpPr>
        <p:spPr>
          <a:xfrm>
            <a:off x="6553080" y="39625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78"/>
          <p:cNvSpPr/>
          <p:nvPr/>
        </p:nvSpPr>
        <p:spPr>
          <a:xfrm>
            <a:off x="7162920" y="3962520"/>
            <a:ext cx="1371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74680" y="11160"/>
            <a:ext cx="834840" cy="86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7T15:30:02Z</dcterms:created>
  <dc:creator>LStedman</dc:creator>
  <dc:description/>
  <dc:language>en-US</dc:language>
  <cp:lastModifiedBy>Caleb Jean</cp:lastModifiedBy>
  <cp:lastPrinted>2017-12-27T16:01:45Z</cp:lastPrinted>
  <dcterms:modified xsi:type="dcterms:W3CDTF">2022-02-16T00:01:03Z</dcterms:modified>
  <cp:revision>132</cp:revision>
  <dc:subject/>
  <dc:title>No Slide Title</dc:title>
</cp:coreProperties>
</file>