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02B01-5A30-4529-96A8-F410B901F5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66F93-BCC0-4850-900C-C3DEA4B193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6BC41-4B73-49C9-BD19-0225EE1E4F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 all NEED to read Gary Klass’s online doc – just show pictures from Table 2, Table 3a and Good Ch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9C1D3-CFB6-4E2B-86AD-5A344DE8D2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A845-904C-4841-B69A-F2A5FB567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12A0-7EC0-4478-9503-028A82436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E5F2-55A7-4BD4-A7CF-8704811B4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E5F1-C878-463C-9EB6-CBC817921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02C12-E41A-44D4-A1CB-AC4B3AFE3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718E3-B706-43F2-8EEC-DA0264151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2C27E-E396-4BCA-BB32-581B9F09D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D7538-B6D5-497E-8382-6A274F5D4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6AD5D-2FBB-4C3B-8C9F-FC259CE73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D0CE1-7DEF-49A6-977B-4D3F977B1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24E80-9B17-4074-B812-22D1F6F13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C5F0-FCB0-47BA-B0D5-2BEB594D8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01AF8-2153-4EBB-AC6E-4AA89CA23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54449-EB62-4135-9F95-D44F37113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A99DA-DCAC-4829-9F9E-DE865224D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375DB-9B31-4215-A246-A086F9C33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C84F0-CE98-410D-A469-A18477FDD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B281-EAC5-400E-AC75-3E884FAFC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4689-20DE-46D5-BC2C-42673A656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DA68-0C26-4489-A041-990DAE465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5725-58E3-486F-82A8-B5AF77AED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7588-D798-45BB-81E6-45F12D67B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F51D-BB3B-47B4-A380-C25BB96F0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B148-4395-4EC3-A0DF-368B090C5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7640"/>
              <a:chOff x="41400" y="-4680"/>
              <a:chExt cx="1012320" cy="685764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52920" y="-4680"/>
                <a:ext cx="987480" cy="683532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51480" y="1694880"/>
                <a:ext cx="98748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53280" y="1285920"/>
                <a:ext cx="98748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53280" y="149400"/>
                <a:ext cx="98748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51480" y="987120"/>
                <a:ext cx="987480" cy="34848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53280" y="681120"/>
                <a:ext cx="987480" cy="4316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53640" y="372600"/>
                <a:ext cx="100008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1760" y="3938040"/>
                <a:ext cx="987480" cy="49968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43200" y="3534840"/>
                <a:ext cx="98748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43560" y="2395800"/>
                <a:ext cx="987480" cy="3045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43200" y="3231360"/>
                <a:ext cx="987480" cy="34848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43200" y="2929320"/>
                <a:ext cx="98748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43920" y="2617920"/>
                <a:ext cx="100008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69800"/>
                <a:ext cx="9871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49680" y="4560480"/>
                <a:ext cx="987480" cy="50328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41760" y="5668200"/>
                <a:ext cx="98748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2520" y="6185520"/>
                <a:ext cx="34596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201000"/>
                <a:ext cx="9871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91760"/>
                <a:ext cx="100008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171A1-51D1-45E1-A0C3-2EC5D6FE45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680"/>
              <a:ext cx="9146880" cy="1012320"/>
              <a:chOff x="-3240" y="2479680"/>
              <a:chExt cx="9146880" cy="101232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9600" y="-1576440"/>
                <a:ext cx="98892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1600" y="2648520"/>
                <a:ext cx="9889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0520" y="2647800"/>
                <a:ext cx="98892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200" y="2780640"/>
                <a:ext cx="9889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240" y="2749680"/>
                <a:ext cx="98892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7680" y="2695680"/>
                <a:ext cx="98892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1920" y="2741400"/>
                <a:ext cx="100152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54960" y="2642760"/>
                <a:ext cx="98856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240" y="2639880"/>
                <a:ext cx="98892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7000" y="2774520"/>
                <a:ext cx="98856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040" y="2741760"/>
                <a:ext cx="98892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3200" y="2690280"/>
                <a:ext cx="98856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200" y="2730960"/>
                <a:ext cx="100152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80480" y="2648520"/>
                <a:ext cx="9889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9400" y="2647800"/>
                <a:ext cx="98892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76240" y="2774520"/>
                <a:ext cx="98856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680"/>
                <a:ext cx="461520" cy="990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82080" y="2690280"/>
                <a:ext cx="98856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2360" y="2730600"/>
                <a:ext cx="10015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6007A-4DC6-444F-BB65-9DDEFF174C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167616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Times New Roman"/>
              </a:rPr>
              <a:t>GOOD TABLES AND FIGUR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haracteristics of </a:t>
            </a: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Good Tables and Figures</a:t>
            </a: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esent meaningful 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ata should be unambiguo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vey ideas efficient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Good Tables and Figur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3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ables have letters and numbers --- on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3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Figures (or charts) may include pictures, geometric shapes, etc. (e.g. bar chart, line chart, histogram, etc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esenting Meaningful Data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atistics based on ratios, rates, and per capita measures are better than aggregate tot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on’t include tables just to make memo look more sophisticat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Good Tabl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7238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99c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earance counts: Simple, easy on the ey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99c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le:  What is the table display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99c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els: Each column and r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99c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words! Say “Educational level”, not EDU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99c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nd: Mean age may be “67” or perhaps “67.5”, but never “67.543” – your reader can’t absorb that level of detail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99c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ificance Tests: Show resul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Formatting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oid fancy fo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mmended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2pt font for 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ld for the 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ything in black and wh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ie Chart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hould rarely be use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vide poor representation of magnitude of data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ain more ink than 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2T22:35:18Z</dcterms:created>
  <dc:creator>CHPSR</dc:creator>
  <dc:description/>
  <dc:language>en-US</dc:language>
  <cp:lastModifiedBy>Judy Polyne</cp:lastModifiedBy>
  <dcterms:modified xsi:type="dcterms:W3CDTF">2021-04-05T13:24:00Z</dcterms:modified>
  <cp:revision>9</cp:revision>
  <dc:subject/>
  <dc:title>SPSS Lab 2</dc:title>
</cp:coreProperties>
</file>